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media/image8.jpeg" ContentType="image/jpeg"/>
  <Override PartName="/ppt/media/image11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4500-E52A-41F9-AF7F-14682538E11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4DCB-E63E-4B0B-8325-65413FE88B3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EAF5-F76A-47FF-BF4B-8D38E824D13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0ED-C7F2-4C21-90CA-EAEBBC52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E28-41DE-4FA5-BBA7-69361B2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5079-AA0C-45C2-AAC0-1119F92E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14CD1-CF05-4CE6-9D35-114BB755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44F5-B4B2-4607-A674-BFD8C0E3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DC017-F7D8-49D9-9D12-435EC96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A4CDE-FF5E-4BB3-9DD7-869DD98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87C2-E60B-4280-9F38-763943F9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70105-B3B6-4347-8F4B-E21B814A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A4D32-6FE6-448E-912E-21911C6B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4B7BA-BCEE-4DD0-8424-A647F1F4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5384F-67F9-402C-B9EB-3783FB1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5BE-93E7-42B1-8B18-57009297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F7061-ABF7-4E70-AF78-8E3FE81F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079BF-FD93-4B75-8EF7-F6C997A6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C52DE-EAC8-4D76-8A67-260B4BD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D98D8-6EAF-4F3A-81F1-2D6C182E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72560-41F7-465B-9025-F3063BD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4FE4F-C14D-4A5D-BEE0-DC9890DA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AC274-63C2-46F7-A359-97AB074A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9DD6D-28C4-4700-A48D-6814D348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67E05-3D74-49B8-8BC6-AA19367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0C08A-785F-4A78-8008-FC45AE3D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347-496A-49E3-902F-2C77000E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9D32E-FEB1-422B-A1F3-91E35D5B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8DC2-B184-4E5D-B38F-F1E64CD9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01509-DE1B-40CC-A553-E0F56521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32435-3192-4928-A998-98EAD529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75682-A9FF-4444-9565-D0FB06C2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0D7F4-5D56-45B2-96BD-66E6C35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DFEFF-23EA-46BF-B083-4C4479F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00D7D-5A26-4AAD-955D-AAF4FE0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13197-C9E6-4581-A779-0AABA9D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C6E9B-DA2A-46BB-930B-86295556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58155-0294-4E55-8604-687975F5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30871-5222-4577-B552-3B323337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D2C74-74EA-4451-B2B3-D0A45700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1F736-9A50-40BE-8E41-3778370E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94C1D-BCCC-42AD-B14F-83B75ADA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DA1E-9857-4A87-94B5-E2D39BBE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D0D7C-09FE-4A09-867F-C3066A2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BD7F-F07D-457A-A17E-F0D7EC1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53ABF-48BF-4397-9A32-026832C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8B942-5AA8-4615-B95C-0976E282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50C6-E2FD-4BDC-A755-B22245B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93197-4E70-4F78-AAD4-01735DD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79DF2-44A5-4CC7-B62D-AD83C04F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FAE5C-2B6D-4D7C-8A8B-60F2C641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D43E3-06B0-4173-ACE1-3A5FEC54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285-909A-4F04-B248-E14BD021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BC52-C9D7-4FAA-913C-A56D6AD1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4F87-0140-4065-B38E-92F5096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493-0AC8-4EBB-86D6-9C453DC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958-A69E-433A-9DC0-44F6CD0A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49C5-EDDA-4BAD-A38B-4E3DB0A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E82-78B4-41FF-8D0E-197A036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14E5-D681-430A-A28F-BEBFC975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6941-EE35-40EE-AF93-F084FF1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2F12-B369-4B3B-AD51-386A26E3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1091-7F2C-44BC-A4CD-E34F17C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FB6C-16F0-4FD8-B6D8-D866A6F0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6939-A914-416B-A982-2AA6C966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DC40-CD27-4D4F-BB6D-70658CA1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161F4-A700-4D4E-A7CF-ADD9BD5F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8B05-98A9-42D1-877A-9DA2B5A4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B782-767F-4B14-A6DE-D5D6DDB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061-6F99-4147-B435-4325714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0FB8-5C43-4740-A075-4B358B58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8EDF-9327-4A3D-B04A-A0FD300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0F61-0522-4E49-85D2-5D1442B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C1240-DA48-47B1-8AEE-644FE34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0189-71B5-4054-8B25-4326515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F65D-7CB9-4241-AA37-9335C217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07DA-93F4-49E5-8904-AA675D7A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21F1-ACC4-4440-9028-BCDB4BE3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F14C-C94A-4135-A74D-C17563B2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E7C22-EC30-4E31-9924-FE7BEDFC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C8C-2CFE-4352-BEA8-5B3D7BC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72F0-F862-4294-9DCA-CE071D10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BA6F-209F-493C-A2C9-B68C652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45B0-397D-42FF-9D30-C703DB8B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5E76-9C90-438F-B9FE-842347FF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CC45-8186-4836-ADC6-AB543DA8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C31A-6288-4ADA-A8E3-D408858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47B3-7494-4165-AE65-F699183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1B7C-B765-4777-81C9-8AB231B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1048-56AB-499E-A7D0-398400ED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F629D-7334-4404-937F-9B497924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2C9-9C53-467E-AF9D-4889ABBF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8BC3-7D2E-4A3C-909D-4B89ED49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6D90-41F1-4799-86E1-58C13E08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F713-3974-4F4F-8FA0-9CFEE6C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8801-FF52-4FF1-A090-6F14159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4DFB-B785-4816-A94D-6D9DF00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FD9C-B587-41BA-A15E-0E3D923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F22EA-5847-43B0-B7D0-0D9C7A9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7968B-BBC4-4CFC-95C9-068A683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64F9-3840-4863-842C-78A1EFF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9F9D-888F-4CD5-9AD1-1B8F691F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716-DBA2-452D-A1D5-6A57C17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2AD7-A2E2-47DC-A9DB-F019639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1EE5-D337-48F0-B328-B3E2818B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AC3F-EABF-4C58-A235-23EEED60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EE178-F429-402A-B684-B182A647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8539-53E8-4D50-AAEA-D49E70F0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D419F-7182-46A0-AEDC-33AA9A3C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3CF95-4F78-4AAB-B729-C788F42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F6FB-80CF-4ED3-86B9-E753A7E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F71B3-FA58-4B70-8DE0-6DFA519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F89A-4453-4D94-8EA4-3D790E2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EDC-7723-4A2C-B657-985884CF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4366-6411-4C98-A366-9A7B666D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0D19F-4E4B-4559-BC4E-9EE9E79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2F1DC-9785-4293-AC97-D7013CB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8B83-1AB4-487D-8953-3CDA033F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7BC9-636C-4691-81E8-D00C9D12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9DAB-FC62-4930-95B0-53B094EC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677A-2BD5-494A-BF0D-1F6533C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8BCD7-6A2A-45BC-91B9-07F85D85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A42B-DFD6-486F-AB23-C022EAEA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05D8D-83F8-494D-8ECF-257607E9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04E-51B8-4EDB-B516-9B306CFE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B35E6-E59D-4EEA-8B2C-35DB86B9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E4C4C-6E49-4DE9-BA7A-2A76DCC6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6524-723B-4D45-8FD8-69FCED4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9478-9C14-4F40-B632-9F27817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EF98C-34CD-4E2B-ABCE-7DA4ADE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E8E6-E6D3-4909-9060-C91DCB73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99303-6160-43BE-9E1D-F265F1D7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A509-31ED-4371-8109-087D6A83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65517-5C76-4626-A3CB-B202D4BF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5CCB-E6C4-4388-8F8B-36670F7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324120"/>
            <a:ext cx="863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FE56-DB4C-4265-A9A4-D8880B0382A4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6920" y="6324480"/>
            <a:ext cx="42433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37680" y="6324480"/>
            <a:ext cx="38232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74B0-CD12-4EEF-B3FA-C8B5F32883E3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7C76-AB2D-44B4-AA89-E0851B1BFFA4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F391-BAA2-47FA-8943-D4FBF35B463B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E01-5F22-43FD-94F6-E58A7006D30F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2526-0C20-49AD-BED9-3BB2D3DA8532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metla-ylabanner-ppt-v6.jpg"/>
          <p:cNvPicPr/>
          <p:nvPr/>
        </p:nvPicPr>
        <p:blipFill>
          <a:blip r:embed="rId2"/>
          <a:srcRect l="0" t="25277" r="0" b="3741"/>
          <a:stretch/>
        </p:blipFill>
        <p:spPr>
          <a:xfrm>
            <a:off x="108000" y="-316080"/>
            <a:ext cx="492120" cy="95061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-88560" y="455040"/>
            <a:ext cx="8650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3B86-4BE2-4D72-844D-BD7BB26C873E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-1168200" y="4127040"/>
            <a:ext cx="302580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153720" y="6262200"/>
            <a:ext cx="38124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1308-1FF6-4F25-A3E4-2A7EEAC8A29B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108000" y="1496880"/>
            <a:ext cx="9576000" cy="924120"/>
          </a:xfrm>
          <a:prstGeom prst="rect">
            <a:avLst/>
          </a:prstGeom>
          <a:solidFill>
            <a:srgbClr val="1f5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metla-ylabanner-ppt-v7.jpg"/>
          <p:cNvPicPr/>
          <p:nvPr/>
        </p:nvPicPr>
        <p:blipFill>
          <a:blip r:embed="rId2"/>
          <a:srcRect l="20572" t="0" r="40470" b="0"/>
          <a:stretch/>
        </p:blipFill>
        <p:spPr>
          <a:xfrm>
            <a:off x="-324000" y="1495440"/>
            <a:ext cx="9792000" cy="925560"/>
          </a:xfrm>
          <a:prstGeom prst="rect">
            <a:avLst/>
          </a:prstGeom>
          <a:ln w="0">
            <a:noFill/>
          </a:ln>
        </p:spPr>
      </p:pic>
      <p:pic>
        <p:nvPicPr>
          <p:cNvPr id="43" name="Title 1" descr=""/>
          <p:cNvPicPr/>
          <p:nvPr/>
        </p:nvPicPr>
        <p:blipFill>
          <a:blip r:embed="rId3"/>
          <a:stretch/>
        </p:blipFill>
        <p:spPr>
          <a:xfrm>
            <a:off x="1170000" y="1762200"/>
            <a:ext cx="787068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metla-ylabanner-logo-anim.jpg"/>
          <p:cNvPicPr/>
          <p:nvPr/>
        </p:nvPicPr>
        <p:blipFill>
          <a:blip r:embed="rId4"/>
          <a:stretch/>
        </p:blipFill>
        <p:spPr>
          <a:xfrm>
            <a:off x="3949560" y="1897200"/>
            <a:ext cx="2490840" cy="523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0C0-CE59-49D4-B057-B0861B3854FE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A236-97DA-4A9C-BC0F-18A642A68021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E0D-85BC-4089-9FAF-8F09DE193BED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991-CA2A-4BF3-BB54-A51FEBC1C09A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EB4-E33D-40A1-8D26-8DB90E7586C5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0E80-89CF-401B-B14A-2574FDD5EA3D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F91E-C87A-4802-994D-18769D4EAD8D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043-C29D-4566-AE4F-359252A17DFD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338-9A05-4EDE-8084-CD9CD5B8BDD6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878A-A5A2-49FD-9A08-BEB3696F53D7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D7A-A82D-428B-BF1C-E634A3423CF6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FC1-0E4D-4481-A8BF-625D3E7BE87F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A19-CB9F-42DE-81AD-2CCCC0E20B7D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11AC-76EA-4D46-AFE0-C2813C0C6097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565360"/>
            <a:ext cx="7772400" cy="22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sponses of plant species to climatic gradient in boreal and temperate forests in Eur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5143320"/>
            <a:ext cx="64008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898989"/>
                </a:solidFill>
                <a:latin typeface="Calibri"/>
              </a:rPr>
              <a:t>Maija Salemaa, Raisa Mäkipää et 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898989"/>
                </a:solidFill>
                <a:latin typeface="Calibri"/>
              </a:rPr>
              <a:t>ICP Forests, Data evaluation meeting, Helsinki, March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 of this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determine which species are potential indicators of climate change in boreal and temperate forests, i.e. which species will most likely extend their biogeographical distribution towards n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4"/>
          <p:cNvSpPr/>
          <p:nvPr/>
        </p:nvSpPr>
        <p:spPr>
          <a:xfrm>
            <a:off x="85820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E62A-1CE2-4B63-8529-DC9E79F8FC2D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prepa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-specific response curves along climatic and resource gradients using generalized linear (GLM) and additive (GAM) mode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317-9982-43FD-A948-D0AC2E56F28B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P Forests Level II dat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rence and abundance of understorey plan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c layer fertility e.g. N &amp; C concent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 structure and silvicultural trea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060-3E95-4DAF-B8C3-00B4BD49C51D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oreal and temperate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ountries: Finland, Estonia, Latvia, Lithuani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ussia, Po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CA28-905F-4663-A8FC-DB704767FE9D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70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B59-6C0E-4F6D-B70F-F46AD80FF3B3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Content Placeholder 7" descr="OXALACET_kukka.jpg"/>
          <p:cNvPicPr/>
          <p:nvPr/>
        </p:nvPicPr>
        <p:blipFill>
          <a:blip r:embed="rId2"/>
          <a:stretch/>
        </p:blipFill>
        <p:spPr>
          <a:xfrm>
            <a:off x="0" y="0"/>
            <a:ext cx="10880640" cy="70722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8"/>
          <p:cNvSpPr/>
          <p:nvPr/>
        </p:nvSpPr>
        <p:spPr>
          <a:xfrm>
            <a:off x="1441080" y="285840"/>
            <a:ext cx="363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nt climatic scenarios suggest that mean summer temperature increases by 4 ºC and in winter by 6 ºC (Ruosteenoja et al 2005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3 ºC change in mean annual temperature isotherm corresponds to a shift of approximately 300–400 km in latitude (Hughes, 200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mate change is already affecting distribution and phenology of many species (Root et al., 2003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mate change is likely to act as important driving force on range of species distribution and community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DCD-6546-42C9-9433-37D89521CE95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Calibri"/>
              </a:rPr>
              <a:t>Oxalis acetocella - </a:t>
            </a: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ood-sorr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18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B8F-AAF0-4B12-B5CF-47BE341B44EA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2" descr="oxalac1"/>
          <p:cNvPicPr/>
          <p:nvPr/>
        </p:nvPicPr>
        <p:blipFill>
          <a:blip r:embed="rId2"/>
          <a:stretch/>
        </p:blipFill>
        <p:spPr>
          <a:xfrm>
            <a:off x="142920" y="1857240"/>
            <a:ext cx="5554440" cy="35006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15"/>
          <p:cNvSpPr/>
          <p:nvPr/>
        </p:nvSpPr>
        <p:spPr>
          <a:xfrm>
            <a:off x="-179640" y="5572080"/>
            <a:ext cx="484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Source: Reinikainen, A. et al. 2000, ME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6008400" y="5572080"/>
            <a:ext cx="290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hoto: Hannu Nousiainen, MET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9" descr="OXALACET1_500pix.jpg"/>
          <p:cNvPicPr/>
          <p:nvPr/>
        </p:nvPicPr>
        <p:blipFill>
          <a:blip r:embed="rId3"/>
          <a:stretch/>
        </p:blipFill>
        <p:spPr>
          <a:xfrm>
            <a:off x="5929200" y="2428920"/>
            <a:ext cx="27860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cological niches of plant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ographical distributions of species to infer species' environmental requir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pecies’ have ecological niche i.e., we can find species specific responses on environmental gradients including soil factors, light conditions as well as on climatic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26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7128-1380-4D92-BEC6-DCB50FD521E1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28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F7E-8D81-47BA-992D-CF9FABEA2534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2643120" y="1643040"/>
            <a:ext cx="32860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Finland:  Distribution of herb species along the south – north latitu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Content Placeholder 8" descr="7herbs_latitude.emf"/>
          <p:cNvPicPr/>
          <p:nvPr/>
        </p:nvPicPr>
        <p:blipFill>
          <a:blip r:embed="rId2"/>
          <a:stretch/>
        </p:blipFill>
        <p:spPr>
          <a:xfrm>
            <a:off x="1500120" y="928800"/>
            <a:ext cx="5286600" cy="5278320"/>
          </a:xfrm>
          <a:prstGeom prst="rect">
            <a:avLst/>
          </a:prstGeom>
          <a:ln w="0">
            <a:noFill/>
          </a:ln>
        </p:spPr>
      </p:pic>
      <p:sp>
        <p:nvSpPr>
          <p:cNvPr id="532" name="TextBox 9"/>
          <p:cNvSpPr/>
          <p:nvPr/>
        </p:nvSpPr>
        <p:spPr>
          <a:xfrm>
            <a:off x="7147800" y="4071960"/>
            <a:ext cx="144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vel I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443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Gener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dditiv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nland:  Response of herb species to temperature 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Content Placeholder 5" descr="7herbs_tempsum.emf"/>
          <p:cNvPicPr/>
          <p:nvPr/>
        </p:nvPicPr>
        <p:blipFill>
          <a:blip r:embed="rId1"/>
          <a:stretch/>
        </p:blipFill>
        <p:spPr>
          <a:xfrm>
            <a:off x="2000160" y="1357200"/>
            <a:ext cx="4498920" cy="4492800"/>
          </a:xfrm>
          <a:prstGeom prst="rect">
            <a:avLst/>
          </a:prstGeom>
          <a:ln w="0">
            <a:noFill/>
          </a:ln>
        </p:spPr>
      </p:pic>
      <p:pic>
        <p:nvPicPr>
          <p:cNvPr id="535" name="Date Placeholder 3" descr=""/>
          <p:cNvPicPr/>
          <p:nvPr/>
        </p:nvPicPr>
        <p:blipFill>
          <a:blip r:embed="rId2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36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CA32-3118-4884-8361-EF52F865FE05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6786720" y="3714840"/>
            <a:ext cx="1928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vel I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443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Gener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dditiv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nland: response of herb species  to canopy closure (ligh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Content Placeholder 6" descr="7herbs_canopy.emf"/>
          <p:cNvPicPr/>
          <p:nvPr/>
        </p:nvPicPr>
        <p:blipFill>
          <a:blip r:embed="rId1"/>
          <a:stretch/>
        </p:blipFill>
        <p:spPr>
          <a:xfrm>
            <a:off x="1785960" y="928800"/>
            <a:ext cx="5151240" cy="5143320"/>
          </a:xfrm>
          <a:prstGeom prst="rect">
            <a:avLst/>
          </a:prstGeom>
          <a:ln w="0">
            <a:noFill/>
          </a:ln>
        </p:spPr>
      </p:pic>
      <p:pic>
        <p:nvPicPr>
          <p:cNvPr id="540" name="Date Placeholder 3" descr=""/>
          <p:cNvPicPr/>
          <p:nvPr/>
        </p:nvPicPr>
        <p:blipFill>
          <a:blip r:embed="rId2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41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8EFE-09AF-416B-827F-8BE1E8316573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786720" y="3929040"/>
            <a:ext cx="1928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vel I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443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Gener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dditiv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nland: response of herb species to the C:N ratio of organic lay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Content Placeholder 5" descr="7herbs_CNorglayer.emf"/>
          <p:cNvPicPr/>
          <p:nvPr/>
        </p:nvPicPr>
        <p:blipFill>
          <a:blip r:embed="rId1"/>
          <a:stretch/>
        </p:blipFill>
        <p:spPr>
          <a:xfrm>
            <a:off x="2000160" y="1285920"/>
            <a:ext cx="4498920" cy="4492440"/>
          </a:xfrm>
          <a:prstGeom prst="rect">
            <a:avLst/>
          </a:prstGeom>
          <a:ln w="0">
            <a:noFill/>
          </a:ln>
        </p:spPr>
      </p:pic>
      <p:pic>
        <p:nvPicPr>
          <p:cNvPr id="545" name="Date Placeholder 3" descr=""/>
          <p:cNvPicPr/>
          <p:nvPr/>
        </p:nvPicPr>
        <p:blipFill>
          <a:blip r:embed="rId2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46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CB1D-D6C8-4C66-B498-FADEC567A2D4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6500880" y="3714840"/>
            <a:ext cx="2000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evel I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443 p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Gener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dditiv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Hypothesis to be 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pecies that have narrow ecological niche along climatic gradinet can be used as indicatiors of climate change in boreal (and temperate) fo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10CF-4A04-4E97-95E3-79621C263A5A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0:50:16Z</dcterms:created>
  <dc:creator/>
  <dc:description/>
  <dc:language>en-US</dc:language>
  <cp:lastModifiedBy/>
  <dcterms:modified xsi:type="dcterms:W3CDTF">2012-03-19T20:07:34Z</dcterms:modified>
  <cp:revision>1</cp:revision>
  <dc:subject/>
  <dc:title/>
</cp:coreProperties>
</file>