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793200" cy="993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4984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914400" y="744120"/>
            <a:ext cx="4965840" cy="372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rebuchet MS"/>
              </a:rPr>
              <a:t>Click to move the slide</a:t>
            </a:r>
            <a:endParaRPr b="1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06480" y="4717800"/>
            <a:ext cx="498168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0" y="943452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49840" y="943452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1BE5D-B9A3-42D2-A837-88EEE1791D9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7"/>
          <p:cNvSpPr/>
          <p:nvPr/>
        </p:nvSpPr>
        <p:spPr>
          <a:xfrm>
            <a:off x="3849840" y="943452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3FC12-4F72-4D80-A6E6-40A89F103AC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906480" y="4717800"/>
            <a:ext cx="49816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7"/>
          <p:cNvSpPr/>
          <p:nvPr/>
        </p:nvSpPr>
        <p:spPr>
          <a:xfrm>
            <a:off x="3849840" y="943452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A1ED2-942D-49C2-89F6-FB39A8B1429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906480" y="4717800"/>
            <a:ext cx="49816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7"/>
          <p:cNvSpPr/>
          <p:nvPr/>
        </p:nvSpPr>
        <p:spPr>
          <a:xfrm>
            <a:off x="3849840" y="943452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5BCD6-D66D-49FA-9E6E-0F0F0F65D37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906480" y="4717800"/>
            <a:ext cx="4981680" cy="44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en’s slope: median change between years for all seasonal bloc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artial Mann-Kendall test allows to substract the effect of climate (precipitation). To show onl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7"/>
          <p:cNvSpPr/>
          <p:nvPr/>
        </p:nvSpPr>
        <p:spPr>
          <a:xfrm>
            <a:off x="3849840" y="943452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6F0C1-BED4-43B1-901C-8B578A2A20C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06480" y="4717800"/>
            <a:ext cx="49816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38240" y="-360"/>
            <a:ext cx="7415280" cy="8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38240" y="-360"/>
            <a:ext cx="7415280" cy="8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38240" y="-360"/>
            <a:ext cx="7415280" cy="8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38240" y="-360"/>
            <a:ext cx="7415280" cy="8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38240" y="-360"/>
            <a:ext cx="7415280" cy="8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38240" y="-360"/>
            <a:ext cx="7415280" cy="8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38240" y="-360"/>
            <a:ext cx="7415280" cy="8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038240" y="-360"/>
            <a:ext cx="7415280" cy="41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38240" y="-360"/>
            <a:ext cx="7415280" cy="8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38240" y="-360"/>
            <a:ext cx="7415280" cy="8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38240" y="-360"/>
            <a:ext cx="7415280" cy="8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38240" y="-360"/>
            <a:ext cx="7415280" cy="8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" name="Rectangle 36"/>
          <p:cNvSpPr/>
          <p:nvPr/>
        </p:nvSpPr>
        <p:spPr>
          <a:xfrm rot="16200000">
            <a:off x="-2940480" y="2928240"/>
            <a:ext cx="6858000" cy="100152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42"/>
          <p:cNvSpPr/>
          <p:nvPr/>
        </p:nvSpPr>
        <p:spPr>
          <a:xfrm>
            <a:off x="1079640" y="774720"/>
            <a:ext cx="7391160" cy="76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Text Box 44"/>
          <p:cNvSpPr/>
          <p:nvPr/>
        </p:nvSpPr>
        <p:spPr>
          <a:xfrm rot="10800000">
            <a:off x="0" y="947520"/>
            <a:ext cx="630360" cy="59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7"/>
          <p:cNvSpPr/>
          <p:nvPr/>
        </p:nvSpPr>
        <p:spPr>
          <a:xfrm>
            <a:off x="1359000" y="1530360"/>
            <a:ext cx="6673680" cy="26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rebuchet MS"/>
              </a:rPr>
              <a:t>Elisabeth Graf Pannati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rebuchet MS"/>
              </a:rPr>
              <a:t>Federal Institute fo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rebuchet MS"/>
              </a:rPr>
              <a:t>Forest, Snow and Landscape Research WS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rebuchet MS"/>
              </a:rPr>
              <a:t>Switzerl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rebuchet MS"/>
              </a:rPr>
              <a:t>elisabeth.pannatier@wsl.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15" descr=""/>
          <p:cNvPicPr/>
          <p:nvPr/>
        </p:nvPicPr>
        <p:blipFill>
          <a:blip r:embed="rId1"/>
          <a:stretch/>
        </p:blipFill>
        <p:spPr>
          <a:xfrm>
            <a:off x="8134200" y="6219720"/>
            <a:ext cx="1009800" cy="4352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16"/>
          <p:cNvSpPr/>
          <p:nvPr/>
        </p:nvSpPr>
        <p:spPr>
          <a:xfrm>
            <a:off x="927000" y="139680"/>
            <a:ext cx="7694640" cy="7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rebuchet MS"/>
              </a:rPr>
              <a:t>Sulphur budge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11556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4"/>
          <p:cNvSpPr/>
          <p:nvPr/>
        </p:nvSpPr>
        <p:spPr>
          <a:xfrm rot="16200000">
            <a:off x="-2635920" y="3488040"/>
            <a:ext cx="585324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What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5"/>
          <p:cNvSpPr/>
          <p:nvPr/>
        </p:nvSpPr>
        <p:spPr>
          <a:xfrm>
            <a:off x="1104840" y="97776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rebuchet MS"/>
              </a:rPr>
              <a:t>Background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  <a:ea typeface="Lucida Grande"/>
              </a:rPr>
              <a:t>The decrease in sulfate deposition has led to a decrease in sulfate concentrations and fluxes in surface waters and in soil solution in North America and in Europe. BUT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  <a:ea typeface="Lucida Grande"/>
              </a:rPr>
              <a:t>In many watersheds, there is a net loss of SO4 on an annual basis (SO4 leaching &gt; SO4 deposition). The loss has increased in the last decades with decreasing ionic strength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  <a:ea typeface="Lucida Grande"/>
              </a:rPr>
              <a:t>The mobilization of SO4 from internal S sources (accumulation of deposited S?) leads to the mobilization of base cations and toxic A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  <a:ea typeface="Lucida Grande"/>
              </a:rPr>
              <a:t>The contribution of substantial internal S sources can affect the establishment of critical loads for S depositio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  <a:ea typeface="Lucida Grande"/>
              </a:rPr>
              <a:t>Objective of this study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  <a:ea typeface="Lucida Grande"/>
              </a:rPr>
              <a:t>To quantify the S budget at Level II plots across Europe and temporal changes in S reten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16"/>
          <p:cNvSpPr/>
          <p:nvPr/>
        </p:nvSpPr>
        <p:spPr>
          <a:xfrm>
            <a:off x="927000" y="63360"/>
            <a:ext cx="7694640" cy="70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rebuchet MS"/>
              </a:rPr>
              <a:t>Sulphur budge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11556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 rot="16200000">
            <a:off x="-2635920" y="3488040"/>
            <a:ext cx="585324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Meth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5"/>
          <p:cNvSpPr/>
          <p:nvPr/>
        </p:nvSpPr>
        <p:spPr>
          <a:xfrm>
            <a:off x="1104840" y="1155600"/>
            <a:ext cx="7772400" cy="530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rebuchet MS"/>
              </a:rPr>
              <a:t>Method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rebuchet MS"/>
              </a:rPr>
              <a:t>Time series of annual S deposi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rebuchet MS"/>
              </a:rPr>
              <a:t>S (SO4 and Sorg) fluxes in soil solution in the topsoil and subsoil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Estimate of soil water fluxes using a simple water bal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Calculation of S fluxes in soil solu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rebuchet MS"/>
              </a:rPr>
              <a:t>At least 6 years of records (2005-2010) to minimize the role of climate (changing precipita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rebuchet MS"/>
              </a:rPr>
              <a:t>Calculate S budget: 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GB" sz="1800" spc="-1" strike="noStrike">
                <a:solidFill>
                  <a:srgbClr val="000000"/>
                </a:solidFill>
                <a:latin typeface="Trebuchet MS"/>
              </a:rPr>
              <a:t>S =  S deposition – S leach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rebuchet MS"/>
              </a:rPr>
              <a:t>Relate 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GB" sz="1800" spc="-1" strike="noStrike">
                <a:solidFill>
                  <a:srgbClr val="000000"/>
                </a:solidFill>
                <a:latin typeface="Trebuchet MS"/>
              </a:rPr>
              <a:t>S with soil properties (texture, Al-oxides, Sorg stocks etc…), ionic strength and soil solution chemistry and clim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16"/>
          <p:cNvSpPr/>
          <p:nvPr/>
        </p:nvSpPr>
        <p:spPr>
          <a:xfrm>
            <a:off x="927000" y="63360"/>
            <a:ext cx="7694640" cy="70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rebuchet MS"/>
              </a:rPr>
              <a:t>Sulphur budge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feld 2"/>
          <p:cNvSpPr/>
          <p:nvPr/>
        </p:nvSpPr>
        <p:spPr>
          <a:xfrm>
            <a:off x="3200400" y="5359320"/>
            <a:ext cx="1843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1155600" y="1600200"/>
            <a:ext cx="7772400" cy="47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4"/>
          <p:cNvSpPr/>
          <p:nvPr/>
        </p:nvSpPr>
        <p:spPr>
          <a:xfrm rot="16200000">
            <a:off x="-2635920" y="3488040"/>
            <a:ext cx="585324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Cooperation and time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5"/>
          <p:cNvSpPr/>
          <p:nvPr/>
        </p:nvSpPr>
        <p:spPr>
          <a:xfrm>
            <a:off x="1092240" y="1015920"/>
            <a:ext cx="7772400" cy="32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rebuchet MS"/>
              </a:rPr>
              <a:t>Cooperatio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rebuchet MS"/>
              </a:rPr>
              <a:t>EP Depos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rebuchet MS"/>
              </a:rPr>
              <a:t>EP Soi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rebuchet MS"/>
              </a:rPr>
              <a:t>Modelling of fluxes ?? Cooperation with study “N retention” (nitrate leachin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rebuchet MS"/>
              </a:rPr>
              <a:t>ICP Waters 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rebuchet MS"/>
              </a:rPr>
              <a:t>Timet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rebuchet MS"/>
              </a:rPr>
              <a:t>S deposition, SO4 and Stot in soil solution until December 20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rebuchet MS"/>
              </a:rPr>
              <a:t>Calculation of SO4 fluxes in soil solution until July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rebuchet MS"/>
              </a:rPr>
              <a:t>Interpretation and manuscript to be submitted to an international peer-reviewed journal: spring 2014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19000" indent="-285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16"/>
          <p:cNvSpPr/>
          <p:nvPr/>
        </p:nvSpPr>
        <p:spPr>
          <a:xfrm>
            <a:off x="927000" y="63360"/>
            <a:ext cx="7694640" cy="70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rebuchet MS"/>
              </a:rPr>
              <a:t>Sulphur budge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feld 2"/>
          <p:cNvSpPr/>
          <p:nvPr/>
        </p:nvSpPr>
        <p:spPr>
          <a:xfrm>
            <a:off x="3200400" y="5359320"/>
            <a:ext cx="1843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8T15:48:21Z</dcterms:created>
  <dc:creator>Informatik</dc:creator>
  <dc:description/>
  <dc:language>en-US</dc:language>
  <cp:lastModifiedBy>Elisabeth Graf Pannatier</cp:lastModifiedBy>
  <cp:lastPrinted>2009-09-06T13:38:34Z</cp:lastPrinted>
  <dcterms:modified xsi:type="dcterms:W3CDTF">2012-03-20T05:58:21Z</dcterms:modified>
  <cp:revision>550</cp:revision>
  <dc:subject/>
  <dc:title>PowerPoint-Präsentation</dc:title>
</cp:coreProperties>
</file>