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C9C-9B6E-4F70-914F-EE4E5FC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77B-B865-4DD3-B104-EB4BDC9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9AF-3F22-47BF-808B-0E6A351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C59-A805-49C9-A107-DE0BACE6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CBF-F2DF-46C9-976D-872331A8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FB9-9C06-4A6E-9D8D-6D813A6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BF7-782B-4A4A-95A8-7754957B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77C-A986-44A2-924E-6C309E7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A14-530B-4BE6-8171-5804B706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513-1526-4AE8-94E1-88B6639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D2E-F3C8-4BCF-BA22-5D19CE3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371-12BD-421E-91D0-BCABDB2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e9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INSTYTUT BADAWCZY LEŚNICTW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761-8B3C-4B84-994B-66F36DDFD1E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e9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Prostokąt 7" descr=""/>
          <p:cNvPicPr/>
          <p:nvPr/>
        </p:nvPicPr>
        <p:blipFill>
          <a:blip r:embed="rId3"/>
          <a:stretch/>
        </p:blipFill>
        <p:spPr>
          <a:xfrm>
            <a:off x="-6480" y="-19080"/>
            <a:ext cx="9156960" cy="366840"/>
          </a:xfrm>
          <a:prstGeom prst="rect">
            <a:avLst/>
          </a:prstGeom>
          <a:ln w="0">
            <a:noFill/>
          </a:ln>
        </p:spPr>
      </p:pic>
      <p:pic>
        <p:nvPicPr>
          <p:cNvPr id="43" name="Obraz 8" descr="logoIBL.png"/>
          <p:cNvPicPr/>
          <p:nvPr/>
        </p:nvPicPr>
        <p:blipFill>
          <a:blip r:embed="rId4"/>
          <a:stretch/>
        </p:blipFill>
        <p:spPr>
          <a:xfrm>
            <a:off x="179280" y="6394320"/>
            <a:ext cx="49392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900000" y="6393960"/>
            <a:ext cx="82440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f6f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6f5c"/>
                </a:solidFill>
                <a:latin typeface="Times New Roman"/>
              </a:rPr>
              <a:t>INSTYTUT BADAWCZY LEŚNICTW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e9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84" name="pole tekstowe 7" descr=""/>
          <p:cNvPicPr/>
          <p:nvPr/>
        </p:nvPicPr>
        <p:blipFill>
          <a:blip r:embed="rId3"/>
          <a:stretch/>
        </p:blipFill>
        <p:spPr>
          <a:xfrm>
            <a:off x="109440" y="6456240"/>
            <a:ext cx="9041040" cy="408240"/>
          </a:xfrm>
          <a:prstGeom prst="rect">
            <a:avLst/>
          </a:prstGeom>
          <a:ln w="0">
            <a:noFill/>
          </a:ln>
        </p:spPr>
      </p:pic>
      <p:pic>
        <p:nvPicPr>
          <p:cNvPr id="85" name="Obraz 8" descr="logoIBL.png"/>
          <p:cNvPicPr/>
          <p:nvPr/>
        </p:nvPicPr>
        <p:blipFill>
          <a:blip r:embed="rId4"/>
          <a:stretch/>
        </p:blipFill>
        <p:spPr>
          <a:xfrm>
            <a:off x="0" y="4284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45920" y="921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399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9966"/>
                </a:solidFill>
                <a:latin typeface="Times New Roman"/>
              </a:rPr>
              <a:t>INSTYTUT BADAWCZY LEŚNICTW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26" name="Prostokąt 2"/>
          <p:cNvSpPr/>
          <p:nvPr/>
        </p:nvSpPr>
        <p:spPr>
          <a:xfrm>
            <a:off x="1511280" y="1449360"/>
            <a:ext cx="6300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9 Ma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WORKSHOP: 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es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sa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48" name="Prostokąt 3"/>
          <p:cNvSpPr/>
          <p:nvPr/>
        </p:nvSpPr>
        <p:spPr>
          <a:xfrm>
            <a:off x="500040" y="608040"/>
            <a:ext cx="830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ORKSHOP FE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eld trip to Białowieża National Park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28th Task Force Meeting of ICP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Forests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NP, Hotel Żubrówka, Białowież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00040" y="1808280"/>
          <a:ext cx="8121600" cy="2476440"/>
        </p:xfrm>
        <a:graphic>
          <a:graphicData uri="http://schemas.openxmlformats.org/drawingml/2006/table">
            <a:tbl>
              <a:tblPr/>
              <a:tblGrid>
                <a:gridCol w="957240"/>
                <a:gridCol w="3954600"/>
                <a:gridCol w="1604880"/>
                <a:gridCol w="1604880"/>
              </a:tblGrid>
              <a:tr h="69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gular Fee (PL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ate F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PL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ield trip to BN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 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FM packa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including coffee breaks and lunch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 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eting dinn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invitation by the Ministry of Environ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Prostokąt 7"/>
          <p:cNvSpPr/>
          <p:nvPr/>
        </p:nvSpPr>
        <p:spPr>
          <a:xfrm>
            <a:off x="500040" y="4508640"/>
            <a:ext cx="24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Post-meeting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00040" y="4878360"/>
          <a:ext cx="8121600" cy="1295280"/>
        </p:xfrm>
        <a:graphic>
          <a:graphicData uri="http://schemas.openxmlformats.org/drawingml/2006/table">
            <a:tbl>
              <a:tblPr/>
              <a:tblGrid>
                <a:gridCol w="957240"/>
                <a:gridCol w="3954600"/>
                <a:gridCol w="1604880"/>
                <a:gridCol w="160488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gular Fee (PL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ate F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PL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6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Ju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ld railroad excursion through the Białowieża for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53" name="Prostokąt 2"/>
          <p:cNvSpPr/>
          <p:nvPr/>
        </p:nvSpPr>
        <p:spPr>
          <a:xfrm>
            <a:off x="657360" y="638280"/>
            <a:ext cx="78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CCOMOD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oms were booked in two hotel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 Białowież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cated close to each oth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rticipant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lect the hotel during the Registration On-L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7360" y="2033640"/>
          <a:ext cx="5443560" cy="1787400"/>
        </p:xfrm>
        <a:graphic>
          <a:graphicData uri="http://schemas.openxmlformats.org/drawingml/2006/table">
            <a:tbl>
              <a:tblPr/>
              <a:tblGrid>
                <a:gridCol w="3011400"/>
                <a:gridCol w="2432160"/>
              </a:tblGrid>
              <a:tr h="70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o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1 night + breakfa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PL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4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Żubrówka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*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NP Guest Ro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900000" y="457200"/>
          <a:ext cx="6193080" cy="5850000"/>
        </p:xfrm>
        <a:graphic>
          <a:graphicData uri="http://schemas.openxmlformats.org/drawingml/2006/table">
            <a:tbl>
              <a:tblPr/>
              <a:tblGrid>
                <a:gridCol w="1121040"/>
                <a:gridCol w="1371600"/>
                <a:gridCol w="3700440"/>
              </a:tblGrid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12800">
                <a:tc gridSpan="3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, 28 May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LCOME RECE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sson Blu Centrum Hotel </a:t>
                      </a: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arsaw,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Grzybowska 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00 – 18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ation of the participa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0 – 18.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rodowa Restaura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lcome by the host cou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15 – 21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ff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 gridSpan="3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, 29 May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IENTIFIC WORKSHOP: 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st 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itoring Res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sson Blu Centrum Hotel </a:t>
                      </a:r>
                      <a:r>
                        <a:rPr b="1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arsaw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Grzybowska 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0 – 9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0 – 9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(II+III) Conference 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ficial welcome speech,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inistry of Environment 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0 – 9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, ICP Forests Chair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15 – 11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sion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0 – 1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ffee br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20 – 13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sion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0 – 14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grodowa R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ch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0 – 16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sion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30 – 16.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ffee br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50 – 18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sion IV: Discussion, workshop summ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nnounc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onia C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of workshop,  ICP Forests Chairm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2"/>
          <p:cNvSpPr/>
          <p:nvPr/>
        </p:nvSpPr>
        <p:spPr>
          <a:xfrm>
            <a:off x="476280" y="593640"/>
            <a:ext cx="7858080" cy="72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GISTR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28tfm_pl.systemcoffee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nk 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cp-forests.net/events/scientific-workshop-forest-monitoring-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adli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gistration is ope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gistration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i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 April 201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ee will be increas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fte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that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adline for on-line registration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13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y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20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ease, note that the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registration is not completed unless payment is ma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ease, contact us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in case a special invitation is necessary (visas)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2"/>
          <p:cNvSpPr/>
          <p:nvPr/>
        </p:nvSpPr>
        <p:spPr>
          <a:xfrm>
            <a:off x="431640" y="863640"/>
            <a:ext cx="8236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ORKSHOP VENUE and  FE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Workshop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orest Monito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adisson Blu Centrum Hotel, Warsaw, Grzybowska 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1640" y="2303640"/>
          <a:ext cx="8236080" cy="2222280"/>
        </p:xfrm>
        <a:graphic>
          <a:graphicData uri="http://schemas.openxmlformats.org/drawingml/2006/table">
            <a:tbl>
              <a:tblPr/>
              <a:tblGrid>
                <a:gridCol w="970200"/>
                <a:gridCol w="4010040"/>
                <a:gridCol w="1627200"/>
                <a:gridCol w="1628640"/>
              </a:tblGrid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egular Fee (PL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ate Fe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PL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 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elcome recep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invitation by the Forest Research Institu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 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orkshop pack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including coffee breaks and lun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2"/>
          <p:cNvSpPr/>
          <p:nvPr/>
        </p:nvSpPr>
        <p:spPr>
          <a:xfrm>
            <a:off x="566640" y="503280"/>
            <a:ext cx="8236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CCOMOD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  make their Warsaw’s hotel reservation by themselv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e-reservation of rooms was made only in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adisson Blu Centrum Hote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ommendation: Please, make a reservation of room at Radisson Blu Centrum Hotel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ntil </a:t>
            </a: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31 March 201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this date the reservations will be confirmed upon availabilit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2012 European Football Championship to be held in Warsaw from 8th of June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 hotel reservation might be difficult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eas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ook the room as soon as possibl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2"/>
          <p:cNvSpPr/>
          <p:nvPr/>
        </p:nvSpPr>
        <p:spPr>
          <a:xfrm>
            <a:off x="566640" y="684360"/>
            <a:ext cx="36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ONTACT AND AS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341280" y="1418760"/>
            <a:ext cx="4591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l informatio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a Kowalska (A.Kowalska@ibles.waw.p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gistratio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wel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ojcik (E.Wojcik@ibles.waw.p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ment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wona Gogo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ka (I.Gogolinska@ibles.waw.pl)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431640" y="4500720"/>
            <a:ext cx="81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ooking forward to seeing you in Warsa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5" descr="DSC04006min.jpg"/>
          <p:cNvPicPr/>
          <p:nvPr/>
        </p:nvPicPr>
        <p:blipFill>
          <a:blip r:embed="rId2"/>
          <a:stretch/>
        </p:blipFill>
        <p:spPr>
          <a:xfrm>
            <a:off x="4932360" y="1179360"/>
            <a:ext cx="421164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sp>
        <p:nvSpPr>
          <p:cNvPr id="142" name="Prostokąt 2"/>
          <p:cNvSpPr/>
          <p:nvPr/>
        </p:nvSpPr>
        <p:spPr>
          <a:xfrm>
            <a:off x="0" y="998640"/>
            <a:ext cx="9144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0 May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ELD TRIP TO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IALOWIEZA NATIONAL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1 May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 Jun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8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CP FOREST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SK FORCE MEET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tel Żubrówka Białowieża, Olgi Grabiec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900000" y="638280"/>
          <a:ext cx="6193080" cy="5130720"/>
        </p:xfrm>
        <a:graphic>
          <a:graphicData uri="http://schemas.openxmlformats.org/drawingml/2006/table">
            <a:tbl>
              <a:tblPr/>
              <a:tblGrid>
                <a:gridCol w="1121040"/>
                <a:gridCol w="1371600"/>
                <a:gridCol w="3700440"/>
              </a:tblGrid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796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, 30 May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er to Białowież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TRIP TO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ALOWIEZA NATIONAL P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Radisson Blu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es departure to Białowież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– 11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311040" indent="-304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s transfer to Białowież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30 – 12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an 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 Reser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t in the BNP Show Reser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0 – 1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aur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Parkow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aur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0 – 19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NP Reser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trip to BNP (program on a separate pag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0 – 2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giellonsk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e BBQ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ymbol zastępczy stopki 1" descr=""/>
          <p:cNvPicPr/>
          <p:nvPr/>
        </p:nvPicPr>
        <p:blipFill>
          <a:blip r:embed="rId1"/>
          <a:stretch/>
        </p:blipFill>
        <p:spPr>
          <a:xfrm>
            <a:off x="738360" y="85680"/>
            <a:ext cx="2906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106640" y="593640"/>
          <a:ext cx="6075360" cy="5761080"/>
        </p:xfrm>
        <a:graphic>
          <a:graphicData uri="http://schemas.openxmlformats.org/drawingml/2006/table">
            <a:tbl>
              <a:tblPr/>
              <a:tblGrid>
                <a:gridCol w="1100160"/>
                <a:gridCol w="1346040"/>
                <a:gridCol w="3629160"/>
              </a:tblGrid>
              <a:tr h="2145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4040">
                <a:tc gridSpan="3">
                  <a:txBody>
                    <a:bodyPr lIns="42120" rIns="42120" tIns="0" bIns="0" anchor="ctr">
                      <a:noAutofit/>
                    </a:bodyPr>
                    <a:p>
                      <a:pPr marL="311040" indent="-304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, 31 May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CP FORESTS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SK FORCE MEET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 Białowieża, Olgi Grabiec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0 – 10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erence Ro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1,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30 – 10.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ffee bre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50 – 13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3,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00 – 14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aur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00 – 15.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5,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0 – 16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ffee bre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10 – 18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7,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0 – 2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aur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eting dinn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gridSpan="3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, 1 June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r>
                        <a:rPr b="1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ASK FORCE MEET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 Białowieża, Olgi Grabiec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0 – 10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30 – 10.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y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ffee bre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50 – 12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 of 28</a:t>
                      </a:r>
                      <a:r>
                        <a:rPr b="0" lang="en-GB" sz="9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FM, ICP Forests Chairm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0 – 13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11040" indent="-304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aur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n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decid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bus departure to </a:t>
                      </a: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saw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arrival time 17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decid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 meeting 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 gridSpan="3"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, 2 June 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el Żubrówka Białowieża, Olgi Grabiec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decid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bus departure to </a:t>
                      </a: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saw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arrival time 12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59:14Z</dcterms:created>
  <dc:creator>A.Kowalska</dc:creator>
  <dc:description/>
  <dc:language>en-US</dc:language>
  <cp:lastModifiedBy>A.Kowalska</cp:lastModifiedBy>
  <dcterms:modified xsi:type="dcterms:W3CDTF">2012-03-19T12:03:36Z</dcterms:modified>
  <cp:revision>66</cp:revision>
  <dc:subject/>
  <dc:title>Slajd 1</dc:title>
</cp:coreProperties>
</file>