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DDA9-DD2E-4F8E-977B-413DA14706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3D63-24A6-4747-BB10-2D4580F8A3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0547-AA4F-4402-90D3-5F3043B280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7E21-11AF-4675-B8A7-670CD61EE5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’s slope: median change between years for all seasonal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Mann-Kendall test allows to substract the effect of climate (precipitation). To show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CC38-B7D8-40F5-81E4-DB357B1098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ach study, we need the trends for all elements but interpretation in the light of a specific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72DD-8969-40E1-9FB7-8B1514E1F5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38240" y="-360"/>
            <a:ext cx="741528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Rectangle 36"/>
          <p:cNvSpPr/>
          <p:nvPr/>
        </p:nvSpPr>
        <p:spPr>
          <a:xfrm rot="16200000">
            <a:off x="-2940480" y="2928240"/>
            <a:ext cx="6858000" cy="10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2"/>
          <p:cNvSpPr/>
          <p:nvPr/>
        </p:nvSpPr>
        <p:spPr>
          <a:xfrm>
            <a:off x="1079640" y="774720"/>
            <a:ext cx="7391160" cy="763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4"/>
          <p:cNvSpPr/>
          <p:nvPr/>
        </p:nvSpPr>
        <p:spPr>
          <a:xfrm rot="10800000">
            <a:off x="0" y="947520"/>
            <a:ext cx="630360" cy="59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359000" y="1530360"/>
            <a:ext cx="6673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lisabeth Graf Panna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Federal Institut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Forest, Snow and Landscape Research W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lisabeth.pannatier@wsl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8134200" y="6219720"/>
            <a:ext cx="1009800" cy="435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927000" y="139680"/>
            <a:ext cx="7694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Temporal trends in soil solution chem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13040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What is the response of the reduction in sulphur and acid deposition in soil solution chemistry in Europ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What is the effect of climate warming on DOC and DON flux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etection of monotonic temporal trends of element concentrations and fluxes in soil solution in Europe (gradient N-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everal countries already published trend analyses at national level. No analysis at European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Temporal trends in soil solution chem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104840" y="115560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tho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Use same methods as used for deposition (see project “Trend analysis in deposition”, P. Waldner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nparametric seasonal Mann-Kendall Test using monthly values (concentrations and fluxes) and Sen’s slope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s a first approach: selection of sites with soil solution records in the last 10 years (2001-2010). Geographical gradient N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heck quality of chemical analyses (IB, 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heck effect of lysimeter installation (decrease in concentrations in the first years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heck dilution and concentration effect (soil moisture, soil water flux, precipitation) using partial Mann-Kendall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Temporal trends in soil solution chem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feld 2"/>
          <p:cNvSpPr/>
          <p:nvPr/>
        </p:nvSpPr>
        <p:spPr>
          <a:xfrm>
            <a:off x="3200400" y="5359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092240" y="1308240"/>
            <a:ext cx="7772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fficult to interpret all trends of all elements in one publication. Results cannot be generalized. Need local knowledge of stand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Focus on different variables in separated publications and different leading auth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C and DON l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3 l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O4 l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t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Temporal trends in soil solution chem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feld 2"/>
          <p:cNvSpPr/>
          <p:nvPr/>
        </p:nvSpPr>
        <p:spPr>
          <a:xfrm>
            <a:off x="3200400" y="5359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operation and time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092240" y="1015920"/>
            <a:ext cx="77724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Cooper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P Deposition (P. Waldner, N. Clarke, K. Hansen and others 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P soil and soil solution (T. Nieminen, E. Vanguelova, H. Meesenburg, E. Graf Pannatier and others 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Modelling of fluxes ?? Cooperation with study “N retention” (nitrate leach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ime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rend analysis of concentrations until Dec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nterpretation of specific variables and manuscripts to be submitted to international peer-reviewed journals: December 201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Temporal trends in soil solution chem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feld 2"/>
          <p:cNvSpPr/>
          <p:nvPr/>
        </p:nvSpPr>
        <p:spPr>
          <a:xfrm>
            <a:off x="3200400" y="5359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5:48:21Z</dcterms:created>
  <dc:creator>Informatik</dc:creator>
  <dc:description/>
  <dc:language>en-US</dc:language>
  <cp:lastModifiedBy>Elisabeth Graf Pannatier</cp:lastModifiedBy>
  <cp:lastPrinted>2009-09-06T13:38:34Z</cp:lastPrinted>
  <dcterms:modified xsi:type="dcterms:W3CDTF">2012-03-20T05:47:22Z</dcterms:modified>
  <cp:revision>543</cp:revision>
  <dc:subject/>
  <dc:title>PowerPoint-Präsentation</dc:title>
</cp:coreProperties>
</file>