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29A9-43C7-4DDA-A283-0A56C6DED30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49A4-97AB-45E8-AE72-0F95CF57576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6F92-66F4-48B2-B773-EF6EAD7B953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ABC6-EA72-4CBE-AFF8-C796556DF8E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6382-BEC1-49D2-B046-C2202B6C5BA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CD8F-22C1-4A3E-983B-6E2E0A54869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717084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5040" y="3888360"/>
            <a:ext cx="717084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5040" y="388836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9560" y="388836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9640" y="198072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43880" y="198072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5040" y="388836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9640" y="388836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43880" y="388836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5040" y="1980720"/>
            <a:ext cx="71708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71708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45720" y="609120"/>
            <a:ext cx="724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95040" y="388836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5040" y="1980720"/>
            <a:ext cx="71708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560" y="388836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5040" y="3888360"/>
            <a:ext cx="717084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717084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95040" y="3888360"/>
            <a:ext cx="717084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5040" y="388836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560" y="388836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9640" y="198072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43880" y="198072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95040" y="388836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9640" y="388836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43880" y="3888360"/>
            <a:ext cx="230868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71708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45720" y="609120"/>
            <a:ext cx="724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5040" y="388836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9560" y="388836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504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560" y="1980720"/>
            <a:ext cx="349920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5040" y="3888360"/>
            <a:ext cx="717084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5040" y="1980720"/>
            <a:ext cx="71708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1600" indent="-201600">
              <a:spcBef>
                <a:spcPts val="950"/>
              </a:spcBef>
              <a:buClr>
                <a:srgbClr val="0a55a4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0840" indent="-21780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2109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113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133640" indent="-166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133640" indent="-166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133640" indent="-166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1"/>
          <p:cNvSpPr/>
          <p:nvPr/>
        </p:nvSpPr>
        <p:spPr>
          <a:xfrm>
            <a:off x="0" y="6012000"/>
            <a:ext cx="2997360" cy="846000"/>
          </a:xfrm>
          <a:prstGeom prst="rect">
            <a:avLst/>
          </a:prstGeom>
          <a:solidFill>
            <a:srgbClr val="0a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2"/>
          <p:cNvSpPr/>
          <p:nvPr/>
        </p:nvSpPr>
        <p:spPr>
          <a:xfrm>
            <a:off x="3062160" y="6012000"/>
            <a:ext cx="6081840" cy="846000"/>
          </a:xfrm>
          <a:prstGeom prst="rect">
            <a:avLst/>
          </a:prstGeom>
          <a:solidFill>
            <a:srgbClr val="2f9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0" descr="logo_IVL"/>
          <p:cNvPicPr/>
          <p:nvPr/>
        </p:nvPicPr>
        <p:blipFill>
          <a:blip r:embed="rId2"/>
          <a:stretch/>
        </p:blipFill>
        <p:spPr>
          <a:xfrm>
            <a:off x="633240" y="6259680"/>
            <a:ext cx="1770120" cy="382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45720" y="609120"/>
            <a:ext cx="7248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5040" y="1980720"/>
            <a:ext cx="71708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1600" indent="-201600">
              <a:spcBef>
                <a:spcPts val="950"/>
              </a:spcBef>
              <a:buClr>
                <a:srgbClr val="0a55a4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20840" indent="-21780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66720" indent="-2109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113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133640" indent="-166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133640" indent="-166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133640" indent="-166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Gårdsjön_filip-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022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95160" y="4581360"/>
            <a:ext cx="775368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ff"/>
                </a:solidFill>
                <a:latin typeface="Calibri"/>
              </a:rPr>
              <a:t>Na/Cl ratios         &amp;        N reten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59280" y="6165720"/>
            <a:ext cx="608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Verdana"/>
              </a:rPr>
              <a:t>Karin Hansen et 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695160" y="20520"/>
            <a:ext cx="77536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ff"/>
                </a:solidFill>
                <a:latin typeface="Calibri"/>
              </a:rPr>
              <a:t>Evaluation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561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What, when, whom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684360" y="1730520"/>
            <a:ext cx="741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mmon exercise for Deposition, Soil/Soil solution,  Meteorolo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ydrological modelling needed for calculation of N le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en for discussion who can lead this evalu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669960" y="922320"/>
            <a:ext cx="7775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monier, A., Schmitt, M., Waldner, P., Schleppi, P. (2008). Seasonality of the Na/Cl ratio in precipitation and implications of canopy leaching in validating chemical analyses of throughfall samples. Atmospheric Environment 42: 9106-911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apply the above methods in forests throughout Eur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401760" y="268200"/>
            <a:ext cx="8748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Background for article on Na/Cl rat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387440" y="2708280"/>
            <a:ext cx="6181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250920" y="1197000"/>
            <a:ext cx="8893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ortion of Na/Cl ratios in throughfall in Europe fall outside the recommended range of 0.5-1.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ching of Na and Cl from forest canopies do occur in the autumn or sprin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ching is highest from deciduous tree spe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3059280" y="189000"/>
            <a:ext cx="280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561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684360" y="1730520"/>
            <a:ext cx="7416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Na and Cl be said to be inert in forest canop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certain tree species leach more Na or Cl than oth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there a seasonal pattern to the leaching of Na and C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3240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500" spc="-1" strike="noStrike">
                <a:solidFill>
                  <a:srgbClr val="000000"/>
                </a:solidFill>
                <a:latin typeface="Calibri"/>
              </a:rPr>
              <a:t>Data needed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4140360" y="1125360"/>
            <a:ext cx="4889520" cy="4248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08000" y="907920"/>
            <a:ext cx="4176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lk precipitation and throughfall data (EPD single surv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teria on annual basi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  sampling during at least 300 day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  gaps between sampling periods &lt; 50 day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  Na and Cl values for at least 300 day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  QC test for conductivity passed in &gt;60% of sampling period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teria on time series basi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  At least 5 subsequent years of measurement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561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What, when, whom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684360" y="1730520"/>
            <a:ext cx="741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ng data will continue during 201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iming at a publication in the beginning of 2013 (Atmospheric Environ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ryone in EPD is welcome to join up in this study and help out with both data analyses and writing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79280" y="907920"/>
            <a:ext cx="417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Gundersen P., Sevel L., Christiansen J.R., Vesterdal L., Hansen K. &amp; Bastrup-Birk A. (2009) Do indicators of nitrogen retention and leaching differ between coniferous and deciduous forests in Denmark? Forest Ecology and Management 258 (7): 1137-114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the intention to apply the above methods in forests throughout Eur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395280" y="189000"/>
            <a:ext cx="8748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Background for article on N re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211640" y="1339920"/>
            <a:ext cx="4932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250920" y="119700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wer N deposition in broadleaved stands compared to coniferous stands is reflected as a similar difference in nitrate leaching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in the input-output response between broadleaves and conifers are an effect of soil differences rather than differences in forest typ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/N-min is a better predictor of nitrate leaching than C/N-org, especially in broadleaved sta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3059280" y="189000"/>
            <a:ext cx="280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561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40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684360" y="1730520"/>
            <a:ext cx="741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deciduous and coniferous forests differ in N leach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 N deposition and N leaching connected in European forest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is the best predictor of N leaching in fore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4:31:35Z</dcterms:created>
  <dc:creator>Filip Moldan</dc:creator>
  <dc:description/>
  <dc:language>en-US</dc:language>
  <cp:lastModifiedBy>Karin Hansen</cp:lastModifiedBy>
  <dcterms:modified xsi:type="dcterms:W3CDTF">2012-03-20T08:48:34Z</dcterms:modified>
  <cp:revision>49</cp:revision>
  <dc:subject/>
  <dc:title>Gårdsjön, IVL and more</dc:title>
</cp:coreProperties>
</file>