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925050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EBE-A042-4713-9A20-02BD8E9C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398-A796-41DB-ADD0-A6F7DD9A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C62-26A6-450F-BE7B-B30331F0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D0D-C503-49DB-B715-199DEE93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84C-7C63-4CE2-B084-98AF66D2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192-DFC0-411D-AAE6-ED047E30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572-CCBA-4B48-B2BC-DADA3F4D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AFD-5AFA-4DE1-B315-5216AD55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511-55F9-44D5-90FE-A6351AE3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A89-D672-4E88-92E1-5D4B1659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219-D46B-4CA0-B7F8-04325198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F04-33F2-43B6-802E-4BCDE61D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2252-6305-46B0-9B89-DA6FE429A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1081080" cy="812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92720" y="0"/>
            <a:ext cx="1295280" cy="81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843280" y="0"/>
            <a:ext cx="936720" cy="826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476360" y="0"/>
            <a:ext cx="1081080" cy="808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0"/>
            <a:ext cx="971280" cy="81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476360" y="3429000"/>
            <a:ext cx="6408720" cy="71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76360" y="242100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66"/>
                </a:solidFill>
                <a:latin typeface="Arial"/>
              </a:rPr>
              <a:t>DATA EVALU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66"/>
                </a:solidFill>
                <a:latin typeface="Arial"/>
              </a:rPr>
              <a:t>EP AMBIENT AI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299440" y="115920"/>
            <a:ext cx="844560" cy="13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16360" y="6237360"/>
            <a:ext cx="39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Helsinky, 20 March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56000" y="5589720"/>
            <a:ext cx="47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oint Expert Panel Meeting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uropean Level Data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172360" y="0"/>
            <a:ext cx="0" cy="16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99440" y="115920"/>
            <a:ext cx="844560" cy="136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683000"/>
            <a:ext cx="73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DATA EVALU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evision of the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lculation of AOT40 and hourly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lculation of ozone fluxes at selected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172360" y="0"/>
            <a:ext cx="0" cy="16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000" y="18900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66"/>
                </a:solidFill>
                <a:latin typeface="Arial"/>
              </a:rPr>
              <a:t>1. Revision of th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99440" y="115920"/>
            <a:ext cx="844560" cy="1368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765720"/>
            <a:ext cx="734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2000-2008 data have been revised (all polluta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2009-2010 (FutMon) is currently under revision (so far passive samplers and only oz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842480"/>
            <a:ext cx="673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EC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ata are reported in the correct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ight units in the air pollutants measurements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r/m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vs ppb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problem for the ma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replicates clearly iden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pper and lower plausibility lim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ness and contin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650040"/>
            <a:ext cx="496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in problems 2000-200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ome missing code p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nits sometimes seem not to be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Mistakes (e.g., starting date &gt; end date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surement period may change in a year (problem for average, no problem for weighted aver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r of replicates not clear in a few cases (above-below canop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ive data sometimes not clearly ident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usability limits excee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3791520"/>
            <a:ext cx="38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in problems 2009-20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Arial"/>
              </a:rPr>
              <a:t>Data much better!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In a few cases, the units for ozone have to be confir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6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3645000"/>
            <a:ext cx="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172360" y="0"/>
            <a:ext cx="0" cy="16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299440" y="115920"/>
            <a:ext cx="844560" cy="136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4248360" cy="3735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835280" y="1700280"/>
            <a:ext cx="4119480" cy="5794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140360" y="4206960"/>
            <a:ext cx="4824360" cy="2651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0000" y="18900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66"/>
                </a:solidFill>
                <a:latin typeface="Arial"/>
              </a:rPr>
              <a:t>1. Revision of th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172360" y="0"/>
            <a:ext cx="0" cy="16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299440" y="115920"/>
            <a:ext cx="844560" cy="136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40360" y="1266480"/>
            <a:ext cx="396072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Loibl et al. (1994) and Geros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Ozone concentration for a given plot is a function of the relative altitude within a 5 km radius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148360" y="2276640"/>
                <a:ext cx="191448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292720" y="3357720"/>
                <a:ext cx="13716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148360" y="4149720"/>
                <a:ext cx="1800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140360" y="2905920"/>
            <a:ext cx="39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 dependence of paramete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the 24 h of the day is: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3625200"/>
            <a:ext cx="39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 dependence of paramete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the 24 h of the day is: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885080" y="3489480"/>
          <a:ext cx="1258920" cy="3186000"/>
        </p:xfrm>
        <a:graphic>
          <a:graphicData uri="http://schemas.openxmlformats.org/drawingml/2006/table">
            <a:tbl>
              <a:tblPr/>
              <a:tblGrid>
                <a:gridCol w="630360"/>
                <a:gridCol w="628560"/>
              </a:tblGrid>
              <a:tr h="4590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Parameter val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4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65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1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b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4716360" cy="289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39640" y="1052640"/>
            <a:ext cx="2676600" cy="1884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2851920"/>
            <a:ext cx="288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ime dependence of parameters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diamonts) and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circles)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349360"/>
            <a:ext cx="1152360" cy="216000"/>
          </a:xfrm>
          <a:prstGeom prst="leftArrow">
            <a:avLst>
              <a:gd name="adj1" fmla="val 50000"/>
              <a:gd name="adj2" fmla="val 133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7120" y="18900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culation of AOT40 and hourly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172360" y="0"/>
            <a:ext cx="0" cy="16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99440" y="115920"/>
            <a:ext cx="844560" cy="136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3822840" cy="539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924360" y="1459080"/>
            <a:ext cx="3822480" cy="5398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7120" y="18900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culation of AOT40 and hourly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72360" y="0"/>
            <a:ext cx="0" cy="16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99440" y="115920"/>
            <a:ext cx="844560" cy="136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7102440" cy="502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8200" y="18900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66"/>
                </a:solidFill>
                <a:latin typeface="Arial"/>
              </a:rPr>
              <a:t>3. Calculating Ozone Fl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172360" y="0"/>
            <a:ext cx="0" cy="16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99440" y="115920"/>
            <a:ext cx="844560" cy="136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81440" y="18900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66"/>
                </a:solidFill>
                <a:latin typeface="Arial"/>
              </a:rPr>
              <a:t>Propose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185840" y="1397160"/>
            <a:ext cx="67708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172360" y="0"/>
            <a:ext cx="0" cy="16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299440" y="115920"/>
            <a:ext cx="8445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6659640" y="2924280"/>
            <a:ext cx="1009440" cy="1655280"/>
            <a:chOff x="6659640" y="2924280"/>
            <a:chExt cx="1009440" cy="1655280"/>
          </a:xfrm>
        </p:grpSpPr>
        <p:sp>
          <p:nvSpPr>
            <p:cNvPr id="112" name=""/>
            <p:cNvSpPr/>
            <p:nvPr/>
          </p:nvSpPr>
          <p:spPr>
            <a:xfrm>
              <a:off x="6877080" y="4435200"/>
              <a:ext cx="144360" cy="1443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08720" y="4435200"/>
              <a:ext cx="144720" cy="1443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19560"/>
              <a:ext cx="144360" cy="1440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93080" y="4219560"/>
              <a:ext cx="144360" cy="1440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08720" y="4219560"/>
              <a:ext cx="144720" cy="1440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7080" y="3571920"/>
              <a:ext cx="14436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93080" y="3571920"/>
              <a:ext cx="14436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08720" y="3571920"/>
              <a:ext cx="14472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7080" y="3787560"/>
              <a:ext cx="144360" cy="1443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93080" y="3787560"/>
              <a:ext cx="144360" cy="1443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08720" y="37875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24720" y="3787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77080" y="4003560"/>
              <a:ext cx="14436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93080" y="4003560"/>
              <a:ext cx="14436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08720" y="4003560"/>
              <a:ext cx="144720" cy="1440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77080" y="3355920"/>
              <a:ext cx="14436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93080" y="3355920"/>
              <a:ext cx="14436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08720" y="3354120"/>
              <a:ext cx="144720" cy="1443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24720" y="3354120"/>
              <a:ext cx="144360" cy="1443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61080" y="4219560"/>
              <a:ext cx="144360" cy="1440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61080" y="3571920"/>
              <a:ext cx="144360" cy="14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61080" y="3787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61080" y="4003560"/>
              <a:ext cx="144360" cy="1440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59640" y="3355920"/>
              <a:ext cx="144360" cy="144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77080" y="3139920"/>
              <a:ext cx="144360" cy="144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93080" y="3139920"/>
              <a:ext cx="144360" cy="144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08720" y="3139920"/>
              <a:ext cx="144720" cy="144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77080" y="2924280"/>
              <a:ext cx="144360" cy="1443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93080" y="2924280"/>
              <a:ext cx="144360" cy="1443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59640" y="3141720"/>
              <a:ext cx="144360" cy="144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59640" y="2925720"/>
              <a:ext cx="144360" cy="1440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411280" y="335772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66"/>
                </a:solidFill>
                <a:latin typeface="Arial"/>
              </a:rPr>
              <a:t>Thanks for your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17:55Z</dcterms:created>
  <dc:creator>Vicent</dc:creator>
  <dc:description/>
  <dc:language>en-US</dc:language>
  <cp:lastModifiedBy>vicent</cp:lastModifiedBy>
  <dcterms:modified xsi:type="dcterms:W3CDTF">2012-03-20T09:40:04Z</dcterms:modified>
  <cp:revision>446</cp:revision>
  <dc:subject/>
  <dc:title>Diapositiva 1</dc:title>
</cp:coreProperties>
</file>