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6D5-4D2F-4EC5-873D-A81169D6086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474B-7438-4B04-B03F-24B12D31B4F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C794-B1F5-45C4-9116-4F8ACE38842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9505-C8F7-4617-B9EC-3F118AD30D9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3C1-6435-4A3D-9186-A127F45F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E1B-4CA5-41D3-B7F3-10953892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9F56-FF91-45B5-8A9B-7E7BA8C7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A5EF-6B87-419C-BDE1-8843910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FD76C-C560-4FF3-B858-EF17C7E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37EF-F3CD-4B08-9446-57B0205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C507-A285-4787-B083-481908B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0011-EDF0-44AB-8FF7-5EE98E3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8A67-F402-44C9-9957-13484D9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8CF0-E3D3-4099-B152-242A2EE7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5F47-A31A-469D-8211-ADB78F70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3624-BD76-4690-A48E-CD538BF4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7B5-C1A5-4F85-A05A-8DC34D1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A715-F386-42FA-9326-CA767F2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EA27-C51C-4519-8386-EED8463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1C2EC-543E-4FD8-8B4F-A2E04A6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7929-1A7C-498E-A40C-F09EFAF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7D774-3CB4-4A29-BE23-73F38C3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6A2D-5C31-4827-993A-659BEF5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99B4C-8C33-403E-BCCB-843CA22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5F7CB-5B65-4306-A4C4-60A38C7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EC72C-23DB-4AE3-B40F-87D021A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09F18-7F2B-4BBB-8607-42B3A83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D64-9C27-45CA-B848-836B1EB9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55637-D10B-4D03-845A-AABD00A7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AAAB-90D4-45B8-8780-3BEDADC4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BE0CA-0ED1-43CB-8C67-AC5745D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D8CB7-2363-4B1B-B56F-97CA39D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66E87-12D5-4043-8E48-C3C44E80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2E07-0919-45FB-8273-BE8D8E2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C7884-5614-4BE8-83F3-1916FD00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913AD-B811-4EC9-AB60-04166D2F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CCFCF-62CB-43CD-87CF-A0CF7B7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7B1A0-97BE-42A3-A8F2-8819123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D7A69-37C9-46A9-9069-241F6018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D97CB-E71D-466D-B9C3-79006F29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45B1E-4873-4032-9A25-64E3A78F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7C7B-24DC-45E5-84AE-F9ACD019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63C6D-9B4A-4F5A-93D1-060EEA7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9E845-81EA-4BAE-9E9A-A5DB7480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91196-4F55-4596-ACAB-45612594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4D8AF-F6E9-4A5C-9192-367D230A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E1C85-7752-41CA-A329-C60295FB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1F36D-176D-40C2-82F0-7EDFDD9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A65E0-4A2A-4396-B2AB-242A883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98385-51D4-46EC-AEE2-400FF10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D7D85-724A-44F0-8B3D-52B53B97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0BFD-C86D-44DB-BDDC-4D3DE2BD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88177-7A19-4EDE-A578-3C03089B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3F8-C606-41E6-AF55-3B6D37C5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EA49-7743-4DB0-BE70-F7C17E0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D278-FD3B-4371-A3D1-FCE309DA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D450-F6CF-405F-ADFF-7A17C81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489-4CFA-4559-8849-5FA693F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5A80-287C-413F-831B-4235E915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9DF-B8CB-43B3-9587-76F2E73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4F9-5124-458D-80B1-91365A13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E84D-F28A-4606-AE22-ADE3E74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B06E-8CCE-4D70-AE30-A383B04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0D29-3780-4434-8410-EBE0C26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D3A2-FC94-4A1E-A698-E13B514E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A903-832C-4B54-AC61-8959D456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23B5-3243-4379-ADAC-EA668F6C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9104-2F88-46B4-86BA-F0F74552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62DD-E124-4378-BBD5-5ABA7BAC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C470-5B42-4F5F-9DBF-C12665AD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418-CE27-4537-BC23-1E6D3722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9970C-FB48-4F5E-A897-7439FE7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29CF-E703-4337-9685-664BE77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E3FB-AABD-4AA4-AE7F-F487C599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DE29-5C6A-4242-963F-26ACB67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D301-0F8E-47A1-BBB2-3F853760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BD59-0080-47C0-A434-518A3DC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53AA-9C54-4FD3-A448-5E4694ED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DB1B-C637-4B92-BD3E-902763C2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4514-4B5B-44CC-9B10-67F56713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085D-DA3F-4AB5-8B24-1E97EFF6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B8F-56D2-448A-9666-6A7D8096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1B47-5348-458D-92BB-6D794A3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51D9-D874-4A15-A304-D761F9EF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DA36-1E40-459E-B259-AAE6296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4C98-4E73-4AC4-91ED-0790E6D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0CB4D-C5A6-485A-AD36-82681122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5505-7517-4A2F-BC13-A714D99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3D27-303E-4B17-876D-E0D029C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2C18-6B7F-4CEA-944A-9C615A4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82CD-4155-46EE-A9E1-B8C4F3C0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8F1A-D218-4FAE-BBCF-FFC97F8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EFA-380E-4E96-9DF1-EAF69C43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BA90-8D8B-4EAB-9779-73D32BFF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A5E2-F554-4D1F-8FDD-A538FA46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2659-DDCF-4828-8B85-E01EF18A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02A2-41FD-4E27-8C7E-1A5EDFA2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D9CB-ADF8-479A-B9B1-62D02F89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1FCE-B4ED-41FA-BF10-F53AC26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5B71-A1CC-4D6E-BE70-FC15A55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9A25-5E2E-4D2F-B104-3A0BA27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A26A-E5BA-44F1-84B6-FE32CFA6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81087-DE3D-42F9-8553-A7B93DC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ECA-DF1E-471E-894C-7DBD95E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D535D-BB38-4AC5-897B-95D0C37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949A-093A-4B05-9D7A-4318944D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CAE7-E0F8-4B71-8CB3-1D2DDEDE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8699-B49F-495F-B1C3-D10B35A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C3CC3-A2E7-483E-BF0E-3CD9395D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4062-83BC-4DFB-AA4B-DA77161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1B603-D288-4871-950E-9C8FB98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37E14-11C8-4094-AB0E-A7718F2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CE8A-39EC-40EF-AFC6-2DE14D40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AE414-8FF0-4BEB-8E82-8263A20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8CE-38DD-4A5F-BCDD-F2BC119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0A7B3-381D-4DE6-B568-8450615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F391-94EB-40A8-AD8F-FBEEA6D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CCC5-770C-47A5-A32E-E860E21D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9FCB4-6878-4A8C-A94A-2A8DA61F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937B-B737-4242-A774-37F73CC0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498CA-A424-4340-963D-CD92429D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8E3B3-8E51-455F-9EF3-91AF7A4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B731-FCAB-44A6-A876-C5AC1DD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DC6D9-7E86-470F-A92B-CA9F5B9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760E-C3F4-4768-A2E1-2EF7B52E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1DD-0616-4348-8667-665631D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AA29B-5EA8-4AB8-BB7A-133B4CA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A46B-5F99-44DC-BF8B-6980B35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5B4D-127A-40F8-98CD-78C2B0E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D12C-113E-4809-8153-7A58864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2669-BE8A-4541-AF25-EA77AAA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F0B11-60A8-43C0-BFF1-3D089ACC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430B-2449-4B66-881C-BC556192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5A14D-C4AF-41EE-B94B-31B26406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698F-6F92-41E6-8A4E-FD939DEE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6009-D93F-476C-9754-FAA3472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324120"/>
            <a:ext cx="863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290B-1472-46F9-B6E6-FD6C89D1FC56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6920" y="6324480"/>
            <a:ext cx="42433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37680" y="6324480"/>
            <a:ext cx="38232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0629-2405-451E-9DDE-C6F93B2CB733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82C2-11DF-4D0F-BAC5-81172452D743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DB9-1EB4-4B81-A94C-6112E14188AF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B5F0-E094-4A84-AA80-2FAA4CFD65AE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D015-74CB-4293-AF4F-CDA83C869D75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metla-ylabanner-ppt-v6.jpg"/>
          <p:cNvPicPr/>
          <p:nvPr/>
        </p:nvPicPr>
        <p:blipFill>
          <a:blip r:embed="rId2"/>
          <a:srcRect l="0" t="25277" r="0" b="3741"/>
          <a:stretch/>
        </p:blipFill>
        <p:spPr>
          <a:xfrm>
            <a:off x="108000" y="-316080"/>
            <a:ext cx="492120" cy="95061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-88560" y="455040"/>
            <a:ext cx="8650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AF8-08FD-47F7-9C41-25F0C55A168C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-1168200" y="4127040"/>
            <a:ext cx="302580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153720" y="6262200"/>
            <a:ext cx="38124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CCAC-3C61-4A0B-8667-479E9E213A0E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108000" y="1496880"/>
            <a:ext cx="9576000" cy="924120"/>
          </a:xfrm>
          <a:prstGeom prst="rect">
            <a:avLst/>
          </a:prstGeom>
          <a:solidFill>
            <a:srgbClr val="1f5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etla-ylabanner-ppt-v7.jpg"/>
          <p:cNvPicPr/>
          <p:nvPr/>
        </p:nvPicPr>
        <p:blipFill>
          <a:blip r:embed="rId2"/>
          <a:srcRect l="20572" t="0" r="40470" b="0"/>
          <a:stretch/>
        </p:blipFill>
        <p:spPr>
          <a:xfrm>
            <a:off x="-324000" y="1495440"/>
            <a:ext cx="9792000" cy="925560"/>
          </a:xfrm>
          <a:prstGeom prst="rect">
            <a:avLst/>
          </a:prstGeom>
          <a:ln w="0">
            <a:noFill/>
          </a:ln>
        </p:spPr>
      </p:pic>
      <p:pic>
        <p:nvPicPr>
          <p:cNvPr id="43" name="Title 1" descr=""/>
          <p:cNvPicPr/>
          <p:nvPr/>
        </p:nvPicPr>
        <p:blipFill>
          <a:blip r:embed="rId3"/>
          <a:stretch/>
        </p:blipFill>
        <p:spPr>
          <a:xfrm>
            <a:off x="1170000" y="1762200"/>
            <a:ext cx="787068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metla-ylabanner-logo-anim.jpg"/>
          <p:cNvPicPr/>
          <p:nvPr/>
        </p:nvPicPr>
        <p:blipFill>
          <a:blip r:embed="rId4"/>
          <a:stretch/>
        </p:blipFill>
        <p:spPr>
          <a:xfrm>
            <a:off x="3949560" y="1897200"/>
            <a:ext cx="2490840" cy="523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0526-4915-4B88-B3EB-837E3401E647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FAD-B366-4950-9D31-0C0124CFBE1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42F5-76AA-40B2-80D8-7B4C4D432F92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F902-937A-4AB4-850E-5A11F5C32E01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397-D4DA-4C0A-BFE4-BDE3C133E366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8622-8B33-4B36-A6D4-F34C1259C17A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FDFA-EBB8-40C1-97EE-40F392CFAF7D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CBC-DCC8-4CCE-BF04-3BC927FD2E09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716-7E8A-4C3C-9C77-2C0EDBE7E962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C5CD-84E6-4112-99B2-06D58B827516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7BFD-3CEC-477C-83D2-2EB9C4EE8DDE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E157-AC94-44DC-A33F-CC4EC6D5AC2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FC4-7C62-4020-B56D-EA45EC30DD7A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F78-DDE0-4046-B397-56BF90D51B67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rends of DOC concentrations in soil solution at European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Nieminen, T. M &amp; Lindroos, A-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"/>
          <p:cNvSpPr/>
          <p:nvPr/>
        </p:nvSpPr>
        <p:spPr>
          <a:xfrm>
            <a:off x="2411280" y="5084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positio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poral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tween-year- trend concent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sonal trend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national trend  analysis have been published: e. g. Norway (Wu et al. 2010), UK (Vanguelova et al 2010), Switzerland (Graf Pannatier et al. 2011), Finland (Lindroos et al. 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4"/>
          <p:cNvSpPr/>
          <p:nvPr/>
        </p:nvSpPr>
        <p:spPr>
          <a:xfrm>
            <a:off x="85820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9DD4-29F4-4A53-8935-FEDC3D9E7AC2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Object 2"/>
          <p:cNvGraphicFramePr/>
          <p:nvPr/>
        </p:nvGraphicFramePr>
        <p:xfrm>
          <a:off x="684360" y="1041480"/>
          <a:ext cx="784836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41480"/>
                    <a:ext cx="784836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5"/>
          <p:cNvSpPr/>
          <p:nvPr/>
        </p:nvSpPr>
        <p:spPr>
          <a:xfrm>
            <a:off x="874440" y="5732640"/>
            <a:ext cx="660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(Derome et al. 2007. Working Papers of the Finnish Forest Research Institute 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1159920" y="476280"/>
            <a:ext cx="78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DOC concentrations in percolation water (depth 5 cm), Norway spruce p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250920" y="260280"/>
          <a:ext cx="8713800" cy="548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713800" cy="54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Box 4"/>
          <p:cNvSpPr/>
          <p:nvPr/>
        </p:nvSpPr>
        <p:spPr>
          <a:xfrm>
            <a:off x="539640" y="59500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innish data (Lindroos A-J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2" descr="koli4raj"/>
          <p:cNvPicPr/>
          <p:nvPr/>
        </p:nvPicPr>
        <p:blipFill>
          <a:blip r:embed="rId1"/>
          <a:stretch/>
        </p:blipFill>
        <p:spPr>
          <a:xfrm>
            <a:off x="-422280" y="0"/>
            <a:ext cx="956628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679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7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Date Placeholder 3" descr=""/>
          <p:cNvPicPr/>
          <p:nvPr/>
        </p:nvPicPr>
        <p:blipFill>
          <a:blip r:embed="rId2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455-57EC-4B06-940C-F4F70D88AB30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itle 1"/>
          <p:cNvSpPr/>
          <p:nvPr/>
        </p:nvSpPr>
        <p:spPr>
          <a:xfrm>
            <a:off x="468360" y="1033560"/>
            <a:ext cx="7488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Overlapping with other pro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0:50:16Z</dcterms:created>
  <dc:creator/>
  <dc:description/>
  <dc:language>en-US</dc:language>
  <cp:lastModifiedBy/>
  <dcterms:modified xsi:type="dcterms:W3CDTF">2012-03-20T05:50:25Z</dcterms:modified>
  <cp:revision>1</cp:revision>
  <dc:subject/>
  <dc:title/>
</cp:coreProperties>
</file>