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AFE2-59E5-4D36-A71B-5C51D432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5472-3614-47D3-B3CC-F864F07C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53C8-9819-4F4B-A850-54558B60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EF15-5414-4F31-9878-7762CA65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BF83-A554-4A44-B196-A7DEC88C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7B4F-8FF6-4CDB-A05B-E4ABC60D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0E0E-65D0-4056-BC72-13CE5C03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42AA-FFFD-4659-980E-449F5BCF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2D3-BC91-4999-B212-4BFA8574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809D-7F30-4D18-ABBF-A164AD95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F392-5601-41D7-86DD-2792CB53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A59E-8C1A-42AC-8B23-3699C132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649A-A261-439C-BB76-9BDBB68E64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3"/>
          <p:cNvSpPr/>
          <p:nvPr/>
        </p:nvSpPr>
        <p:spPr>
          <a:xfrm>
            <a:off x="826920" y="836640"/>
            <a:ext cx="7480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iscussion descri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ore data available ? (Growth, Pheno, Litterfall) – concerted action /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Yes, but well prepared by Eps, as well describing the present sit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Further  procedure: we need you EP‘s to communicate and fill data ga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Errors: communicate to NFCs and cc to PC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eep in mind: no idea on real data quality, but plotnumbers are first st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ggregated data: can be shared (soil, depo) input for other studies, co-autho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Expert list: EPs, but we can produce a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ater budg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08:29:12Z</dcterms:created>
  <dc:creator>Fischer</dc:creator>
  <dc:description/>
  <dc:language>en-US</dc:language>
  <cp:lastModifiedBy>Metla</cp:lastModifiedBy>
  <dcterms:modified xsi:type="dcterms:W3CDTF">2012-03-20T09:34:55Z</dcterms:modified>
  <cp:revision>7</cp:revision>
  <dc:subject/>
  <dc:title>Folie 1</dc:title>
</cp:coreProperties>
</file>