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C23B-7EB5-4DFA-89A0-A9BE6219A2B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C14-196E-41EC-B34F-2B8FC3A1F69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A8E3-B23B-4414-9713-CACE8D4D8E9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C739-93AA-44EF-A405-23D5FF4CFDC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492-25C7-4460-96CD-725989B713D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7C18-8CF5-4C34-8936-5E3C9AB48BA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B59-EBB8-4E94-864C-08127C3355E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FF4-BF04-4B21-ABD6-F9CED578E91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09E1-C8B2-4463-B92E-0CFE0E4B5AE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E9B-E592-4663-86AF-868F0553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F8B-2C26-4E63-B865-97CE7D9E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334B-C272-45EC-9690-4348500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6B85-39B2-45A5-A376-EFFCBDD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855F-B5D1-4D95-9348-43BEF92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9335-5E7D-4B4F-9996-D889DE6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A3BD2-74C4-47AA-B11A-0312430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568C8-FF56-468D-970E-03DD1FA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9126-1517-4942-88B7-4491457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59C7-EF77-4EDB-8B34-569FE97B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9C99-4DED-49BB-A985-E7DC0A55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BFD9B-089F-48E3-BC88-F3D2E963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E6B-FFE1-4370-AA7F-6C3400ED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838D-CF29-4596-9BAA-206F97C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AE98C-F4D0-4084-80BC-9EF4907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2ADE-4182-4E3B-85C8-CB2C5F2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AF597-7157-427F-81CB-CAE36CF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47A9-E987-4789-9C75-43F8E85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48251-6A53-4B99-8A09-B0D6176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D0AC-4A30-451A-979C-61714630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90082-8F25-4189-AFC9-E4B0D71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BF93F-61F4-436B-9B3A-8CFA763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70AB2-0278-416B-B636-DB2F37EC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8C0-7A54-4AF0-8D69-D0E860CE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6443-9783-41E6-805A-9BC25E3B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95BBA-B528-43F4-B84A-10708CAE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18B1F-A633-4B27-9DA5-ADB1E30D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525F6-521B-4298-AB12-6A879F46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37F71-8D2B-4056-883C-37E92F1A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9B6C2-558B-4E46-92C3-8B5FB4C0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944A0-C8B1-4523-9E74-03C9009F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223FE-71F1-4D46-A9BA-833561F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067FF-9D46-4BBF-BBE6-05826D4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B0441-7D2A-4AEC-8CD5-612A70BC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0C66-D53E-40AE-9D73-C2FD1287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74C7C-0514-42EE-BA44-0AD6AE3C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353D2-2470-453E-A5B5-BC70083B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B40-825E-4DFD-8C90-D50B801A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E15A-2E3D-4E97-8428-E96B995E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236-A9B3-443B-9F12-39A53C51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FCF2-F427-4C43-984B-764D3D1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938-3A9C-493A-8D66-13D8D620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FC8F-65E7-4215-BFD3-84E80A4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B19-FFD5-484D-B938-74CE8AD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CF0-DE5E-4FB6-8A04-0772817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28E-3650-49D1-A240-980FD34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567-5D57-44D0-8FFD-EDF30253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1241-04F7-466C-9579-1C149A9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145A-4784-4CDE-8435-5D3A67E3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D2E-25EE-4052-9860-DEBF274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FAFB-35E3-4020-97A9-065A448D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7874-F8D6-4F43-9FD1-C871D127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F459-8FA5-41AD-B799-FFC546DD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E7F6-82BF-4918-8B8A-137DF574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048-D069-47C5-A6FE-412A915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48D8-6866-4A66-8AA6-B57E94B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AC83-8B42-47D2-9AF9-62030475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896A-6B85-4B6B-9EFB-2AF55E2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CB26-AB7A-4ADA-94F5-BD328E1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CE98-FBF8-437A-B91C-C589F9E2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2295-D827-4A53-8542-1C80696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3119-B031-4347-A105-DEA25D91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C3DE-B6DD-4B41-97FC-A0732AEF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1D26-B735-41BC-8BC6-482E577B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0118F-ED2B-4652-83FB-49444408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E61-EBD9-4E18-AF22-55EB2985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07DE-52D4-4D5D-B210-B54275B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D950-46D8-4324-8389-ECAAE377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2CC9-82A8-46C7-9DE0-66BB3AB4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8A48-76D6-428E-937E-3F29ECC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CABC-D868-49B9-B1CA-51D3120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0308-9C42-4442-B602-F1D9606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C3C8-4B81-4103-A477-EA72F26B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8ECE-48E0-47A3-8F76-D75B6C7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FFF7-351A-4C21-9085-2B39D80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D82D-7F12-404C-9EFE-EA474DA3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4CD-8B74-4B8A-9087-8A205D9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D63D-2493-4586-811F-7CB6806A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92136-9AFA-4D01-9ACE-80EE4DBD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FEB0-8A24-4FB4-9D01-A90761D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A2EF-7951-4F37-A5B7-88CB8DC6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B393-A6E4-4E49-9E8B-47921DA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DAD9-17D2-4369-AC85-FDBF4718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B975-B4A5-4B39-90BB-866DA86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49332-D33F-4F48-BDE2-9723BC94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D98CF-542F-4883-A2BD-D8DF235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31CA-8691-41B0-B284-C24BE13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40A-838A-4AE6-997E-2DC4B59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14587-3B94-4FC5-992C-2E2B4E7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883E-4831-48D0-852D-0F73EE0F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296C-D42F-40C7-BFE2-92903965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55550-1B93-4AAE-A2C5-4261D7C6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9DB8-11D6-4095-9E7E-C2A6373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6B6A-D694-4A4C-AB2C-213CBB7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9FE1-D50A-4E15-B28F-F9991623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F80B-283F-4021-A834-1D3ADF0C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7FDC-1FAB-4FDE-ADAA-12DCCB7C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642B-5BBA-4B07-AF2A-F548055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EB1-CBC6-4C2E-9FFC-C4839A6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F42D-2664-4E5C-863A-EA00DC5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BB55D-4168-46D3-878A-03124EF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B5D0-59C3-4D24-9708-1DFCF9E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F223-9B15-40D9-B93F-79537D2D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15A5-DC5D-43C3-AA84-AA49CE69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39CB-8AD6-4278-B2EE-BF853790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3CD1D-FF11-4860-8274-BFF30C0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23AB8-6E1C-4416-A0EE-E4172597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4DA82-E18D-4BF9-9A1D-08118E8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23F2-7A96-4C47-B482-E80E2B5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B31-7C5E-4B17-B465-F26F85F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3F53-7AA2-4306-8D37-4EAC83B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DACD4-7413-4E43-9650-DC2E82F5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B7ED-8988-4581-A95E-6445A5A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F525-CBD9-45B1-8B44-9AF14D34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E999-EAA8-44C2-B834-218B774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E0B31-676F-4F57-BD4D-72D810DD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E1902-9974-402F-AB59-DB9D069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D160-3157-40ED-BD25-C5C2837D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014D-8EA6-4CD9-A26F-D5770098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6425-ABA3-4491-8253-5CEFA522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324120"/>
            <a:ext cx="86364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25A-7EC8-4717-AC46-034B6C454FB2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6920" y="6324480"/>
            <a:ext cx="42433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37680" y="6324480"/>
            <a:ext cx="38232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4869-6B86-48C1-B8DF-B61EF13415B9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1C7-6912-44FC-B7C7-18B79D7D292C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194A-6C6F-4177-8921-43530A183CB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25C-98E8-4BB6-8DE9-0B23D30D2A6F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05A-02AA-40BB-AD90-51CD2F84E77E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108000" y="1496880"/>
            <a:ext cx="9576000" cy="924120"/>
          </a:xfrm>
          <a:prstGeom prst="rect">
            <a:avLst/>
          </a:prstGeom>
          <a:solidFill>
            <a:srgbClr val="1f5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etla-ylabanner-ppt-v7.jpg"/>
          <p:cNvPicPr/>
          <p:nvPr/>
        </p:nvPicPr>
        <p:blipFill>
          <a:blip r:embed="rId2"/>
          <a:srcRect l="20572" t="0" r="40470" b="0"/>
          <a:stretch/>
        </p:blipFill>
        <p:spPr>
          <a:xfrm>
            <a:off x="-324000" y="1495440"/>
            <a:ext cx="9792000" cy="925560"/>
          </a:xfrm>
          <a:prstGeom prst="rect">
            <a:avLst/>
          </a:prstGeom>
          <a:ln w="0">
            <a:noFill/>
          </a:ln>
        </p:spPr>
      </p:pic>
      <p:pic>
        <p:nvPicPr>
          <p:cNvPr id="43" name="Title 1" descr=""/>
          <p:cNvPicPr/>
          <p:nvPr/>
        </p:nvPicPr>
        <p:blipFill>
          <a:blip r:embed="rId3"/>
          <a:stretch/>
        </p:blipFill>
        <p:spPr>
          <a:xfrm>
            <a:off x="1170000" y="1762200"/>
            <a:ext cx="787068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metla-ylabanner-logo-anim.jpg"/>
          <p:cNvPicPr/>
          <p:nvPr/>
        </p:nvPicPr>
        <p:blipFill>
          <a:blip r:embed="rId4"/>
          <a:stretch/>
        </p:blipFill>
        <p:spPr>
          <a:xfrm>
            <a:off x="3949560" y="1897200"/>
            <a:ext cx="2490840" cy="523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319-4B7B-4F0C-9838-E1FE8C036CE5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5AE-F303-47CD-9F8A-76732F0506BD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453-3469-444C-87E6-D6D821206848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8B8-0CA0-432E-B7F2-87D5D17EB155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419E-445A-4E50-B045-0C55A72A4CC9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EA80-1FAF-49CE-ADDD-37539559E51F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0F74-5613-4754-8E94-7380172CAB06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2BD6-8721-4449-B766-F8E070B1D05C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A6F9-0BA7-42AA-8EED-9A2CB36CF479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7E7-B380-436E-9442-603F1D338459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E75-D6F6-4C01-A9D7-C8D8D919AC20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1BA-AF23-4680-995E-344A79290F14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metla-ylabanner-ppt-v6.jpg"/>
          <p:cNvPicPr/>
          <p:nvPr/>
        </p:nvPicPr>
        <p:blipFill>
          <a:blip r:embed="rId2"/>
          <a:srcRect l="25275" t="0" r="3742" b="0"/>
          <a:stretch/>
        </p:blipFill>
        <p:spPr>
          <a:xfrm>
            <a:off x="-181080" y="6248520"/>
            <a:ext cx="9506160" cy="493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324000" y="6359400"/>
            <a:ext cx="8632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bf1d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26D8-168F-448D-A845-51838A14E347}" type="datetime">
              <a:rPr b="0" lang="en-US" sz="1100" spc="-1" strike="noStrike">
                <a:solidFill>
                  <a:srgbClr val="ebf1de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4066920" y="6359400"/>
            <a:ext cx="424980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45928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i-FI" sz="1100" spc="-1" strike="noStrike">
                <a:solidFill>
                  <a:srgbClr val="d7e4b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7BAE-4E09-46A0-9B20-7A4067942E85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56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uropean foliar data &amp;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autio, P., Fürst, A., Sulkava, M.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ICP Forests EP Foliar &amp; Litter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09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022-63FD-4E17-BFF1-66A4622CCBD9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oliar data (Country * yea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91216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13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A88-986B-4DEF-B16D-25EB2BEF0EB3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oliar data (Country * yea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1216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elf organizing map</a:t>
            </a:r>
            <a:br>
              <a:rPr sz="44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agus sylva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18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1C1-A1E3-4447-AEC6-1C4D7D430382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Content Placeholder 6" descr="SOM_ICP_20.png"/>
          <p:cNvPicPr/>
          <p:nvPr/>
        </p:nvPicPr>
        <p:blipFill>
          <a:blip r:embed="rId2"/>
          <a:stretch/>
        </p:blipFill>
        <p:spPr>
          <a:xfrm>
            <a:off x="395280" y="1341360"/>
            <a:ext cx="85946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elf organizing map</a:t>
            </a:r>
            <a:br>
              <a:rPr sz="44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icea ab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22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FA3-3286-4849-A61C-8A17618D16CB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Content Placeholder 7" descr="SOM_ICP_118.png"/>
          <p:cNvPicPr/>
          <p:nvPr/>
        </p:nvPicPr>
        <p:blipFill>
          <a:blip r:embed="rId2"/>
          <a:stretch/>
        </p:blipFill>
        <p:spPr>
          <a:xfrm>
            <a:off x="395280" y="1341360"/>
            <a:ext cx="85852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elf organizing map</a:t>
            </a:r>
            <a:br>
              <a:rPr sz="44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inus sylvest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26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BE63-4135-4D4B-923B-C59B6EFB051A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Content Placeholder 6" descr="SOM_ICP_134.png"/>
          <p:cNvPicPr/>
          <p:nvPr/>
        </p:nvPicPr>
        <p:blipFill>
          <a:blip r:embed="rId2"/>
          <a:stretch/>
        </p:blipFill>
        <p:spPr>
          <a:xfrm>
            <a:off x="395280" y="1341360"/>
            <a:ext cx="85852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actor analysis</a:t>
            </a:r>
            <a:br>
              <a:rPr sz="4400"/>
            </a:b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for N, S, P, Ca, Mg &amp; K; PCA; Varimax rot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Fagus sylva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</a:rPr>
              <a:t>Picea 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Date Placeholder 3" descr=""/>
          <p:cNvPicPr/>
          <p:nvPr/>
        </p:nvPicPr>
        <p:blipFill>
          <a:blip r:embed="rId1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32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0493-8D93-4AB2-BCDB-FFC309852B28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2"/>
          <a:stretch/>
        </p:blipFill>
        <p:spPr>
          <a:xfrm>
            <a:off x="4937040" y="2349360"/>
            <a:ext cx="3394080" cy="3672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"/>
          <p:cNvPicPr/>
          <p:nvPr/>
        </p:nvPicPr>
        <p:blipFill>
          <a:blip r:embed="rId3"/>
          <a:stretch/>
        </p:blipFill>
        <p:spPr>
          <a:xfrm>
            <a:off x="549360" y="2349360"/>
            <a:ext cx="3460680" cy="3743640"/>
          </a:xfrm>
          <a:prstGeom prst="rect">
            <a:avLst/>
          </a:prstGeom>
          <a:ln w="0">
            <a:noFill/>
          </a:ln>
        </p:spPr>
      </p:pic>
      <p:sp>
        <p:nvSpPr>
          <p:cNvPr id="535" name="Oval 12"/>
          <p:cNvSpPr/>
          <p:nvPr/>
        </p:nvSpPr>
        <p:spPr>
          <a:xfrm>
            <a:off x="1403280" y="3284640"/>
            <a:ext cx="792360" cy="57600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3"/>
          <p:cNvSpPr/>
          <p:nvPr/>
        </p:nvSpPr>
        <p:spPr>
          <a:xfrm>
            <a:off x="5796000" y="3213000"/>
            <a:ext cx="792000" cy="576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2411280" y="4076640"/>
            <a:ext cx="720720" cy="64764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5"/>
          <p:cNvSpPr/>
          <p:nvPr/>
        </p:nvSpPr>
        <p:spPr>
          <a:xfrm>
            <a:off x="6732720" y="4076640"/>
            <a:ext cx="792000" cy="576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6"/>
          <p:cNvSpPr/>
          <p:nvPr/>
        </p:nvSpPr>
        <p:spPr>
          <a:xfrm>
            <a:off x="3419640" y="3789360"/>
            <a:ext cx="504720" cy="360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7"/>
          <p:cNvSpPr/>
          <p:nvPr/>
        </p:nvSpPr>
        <p:spPr>
          <a:xfrm>
            <a:off x="3419640" y="4653000"/>
            <a:ext cx="504720" cy="360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8"/>
          <p:cNvSpPr/>
          <p:nvPr/>
        </p:nvSpPr>
        <p:spPr>
          <a:xfrm>
            <a:off x="7740720" y="4581360"/>
            <a:ext cx="503280" cy="360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9"/>
          <p:cNvSpPr/>
          <p:nvPr/>
        </p:nvSpPr>
        <p:spPr>
          <a:xfrm>
            <a:off x="7740720" y="3716280"/>
            <a:ext cx="503280" cy="360360"/>
          </a:xfrm>
          <a:prstGeom prst="ellipse">
            <a:avLst/>
          </a:prstGeom>
          <a:solidFill>
            <a:srgbClr val="00b050">
              <a:alpha val="2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2" descr="koli4raj"/>
          <p:cNvPicPr/>
          <p:nvPr/>
        </p:nvPicPr>
        <p:blipFill>
          <a:blip r:embed="rId1"/>
          <a:stretch/>
        </p:blipFill>
        <p:spPr>
          <a:xfrm>
            <a:off x="-422280" y="0"/>
            <a:ext cx="956628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2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72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Date Placeholder 3" descr=""/>
          <p:cNvPicPr/>
          <p:nvPr/>
        </p:nvPicPr>
        <p:blipFill>
          <a:blip r:embed="rId2"/>
          <a:stretch/>
        </p:blipFill>
        <p:spPr>
          <a:xfrm>
            <a:off x="317520" y="6351480"/>
            <a:ext cx="878040" cy="23184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4"/>
          <p:cNvSpPr/>
          <p:nvPr/>
        </p:nvSpPr>
        <p:spPr>
          <a:xfrm>
            <a:off x="8459640" y="6359400"/>
            <a:ext cx="382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F8EE-2AE4-4E86-A3D6-C7360C3EFB8E}" type="slidenum">
              <a:rPr b="0" i="1" lang="fi-FI" sz="1100" spc="-1" strike="noStrike">
                <a:solidFill>
                  <a:srgbClr val="d7e4bd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Title 1" descr=""/>
          <p:cNvPicPr/>
          <p:nvPr/>
        </p:nvPicPr>
        <p:blipFill>
          <a:blip r:embed="rId3"/>
          <a:stretch/>
        </p:blipFill>
        <p:spPr>
          <a:xfrm>
            <a:off x="4084560" y="1017720"/>
            <a:ext cx="1530360" cy="360360"/>
          </a:xfrm>
          <a:prstGeom prst="rect">
            <a:avLst/>
          </a:prstGeom>
          <a:ln w="0">
            <a:noFill/>
          </a:ln>
        </p:spPr>
      </p:pic>
      <p:pic>
        <p:nvPicPr>
          <p:cNvPr id="548" name="Title 1" descr=""/>
          <p:cNvPicPr/>
          <p:nvPr/>
        </p:nvPicPr>
        <p:blipFill>
          <a:blip r:embed="rId4"/>
          <a:stretch/>
        </p:blipFill>
        <p:spPr>
          <a:xfrm>
            <a:off x="4505400" y="1504800"/>
            <a:ext cx="1871640" cy="390600"/>
          </a:xfrm>
          <a:prstGeom prst="rect">
            <a:avLst/>
          </a:prstGeom>
          <a:ln w="0">
            <a:noFill/>
          </a:ln>
        </p:spPr>
      </p:pic>
      <p:pic>
        <p:nvPicPr>
          <p:cNvPr id="549" name="Title 1" descr=""/>
          <p:cNvPicPr/>
          <p:nvPr/>
        </p:nvPicPr>
        <p:blipFill>
          <a:blip r:embed="rId5"/>
          <a:stretch/>
        </p:blipFill>
        <p:spPr>
          <a:xfrm>
            <a:off x="5626080" y="1054080"/>
            <a:ext cx="2049480" cy="469800"/>
          </a:xfrm>
          <a:prstGeom prst="rect">
            <a:avLst/>
          </a:prstGeom>
          <a:ln w="0">
            <a:noFill/>
          </a:ln>
        </p:spPr>
      </p:pic>
      <p:pic>
        <p:nvPicPr>
          <p:cNvPr id="550" name="Title 1" descr=""/>
          <p:cNvPicPr/>
          <p:nvPr/>
        </p:nvPicPr>
        <p:blipFill>
          <a:blip r:embed="rId6"/>
          <a:stretch/>
        </p:blipFill>
        <p:spPr>
          <a:xfrm>
            <a:off x="281160" y="768240"/>
            <a:ext cx="1846080" cy="700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" descr="logo-valk.png"/>
          <p:cNvPicPr/>
          <p:nvPr/>
        </p:nvPicPr>
        <p:blipFill>
          <a:blip r:embed="rId7"/>
          <a:stretch/>
        </p:blipFill>
        <p:spPr>
          <a:xfrm>
            <a:off x="1903320" y="1360440"/>
            <a:ext cx="223704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9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8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9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9:54:02Z</dcterms:created>
  <dc:creator>prautio</dc:creator>
  <dc:description/>
  <dc:language>en-US</dc:language>
  <cp:lastModifiedBy>prautio</cp:lastModifiedBy>
  <dcterms:modified xsi:type="dcterms:W3CDTF">2012-03-17T21:26:00Z</dcterms:modified>
  <cp:revision>8</cp:revision>
  <dc:subject/>
  <dc:title>Main header of the show</dc:title>
</cp:coreProperties>
</file>