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9.wmf" ContentType="image/x-wmf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9C0D-D8E2-40A2-ABC4-3BD610E46F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3F1D-5F84-4583-BE5D-1BD1F8174F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vironmental Pollution: max. 5000 words including abstract, excluding 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tmospheric Environment: max. 6500 wo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rest Ecology and Management (1.99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218B-85E4-4D40-901A-C71B5DF36A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uropean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nk with deposition (only at level 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uture research: validation on Level II with real deposition (throughfall dat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 normally C:N index is bigger than 1. Number of plots in a region with C:N index below 1 = indication of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CA63-257C-4D8D-96B0-0D7AAC96C5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BAF4-242D-4051-9A9E-6684007C93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068560" y="507960"/>
            <a:ext cx="2732040" cy="2050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7240" y="2619360"/>
            <a:ext cx="543096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fter screening 21 variables using a BRT analysis, the tree species was found to be the most important explaining variable (Rel. Infl. 40 %) followed by the soil type (Rel. Infl. 20 %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he black locust (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Robinia pseudoacacia L.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) and black alder (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lnus glutinosa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L. Gaertn.), which are both nitrogen fixing tree species, are in the BioSoi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database the tree species with the lowest C:N ratios in the forest floo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t is followed by hop hornbeam (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Ostrya carpinifolia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cop.). Next are several deciduous species: Quercus species, other members of the Betulaceae family (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Betula pendula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Roth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, Carpinus betulus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L.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nd B. pubescens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Ehrh.) and ash (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Fraxinus excelsior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L.). Note that two typical Quercus species from the Mediterranean part of Europe, holm oak (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Quercus ilex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L.) and cork oak (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Quercus suber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L.), have remarkably high C:N ratios in the forest floor. Another evergreen broadleaved tree species with high C:N is Eucalyptu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Common beech (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Fagus sylvatica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L.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d its related morpho – or ecotype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 F. moesiaca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Denk 1999]) is the species with the highest mean C:N ratio of all deciduous broadleaved tree species considered in  this Figure  with a BS mean C:N value of 24.2 . It is immediately followed by the European larch (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Larix decidua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Mill.) which is the only deciduous coniferous tree species in this stud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he coniferous tree species generally have higher C:N ratios than the deciduous trees except for douglas-fir (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Pseudotsuga menziesii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(Mirbel)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Franco) which shows remarkable low C:N ratios, though observed on a relatively low number of plots (n = 15)  and confirmed by research of Vesterdal (1998) and  Prescot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he European silver fir (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bies alba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ill.), European larch (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Larix decidua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ill.), Norway (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Picea abies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(L.) Karst.) and sitka spruce (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Picea sitchensis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(Bong.) Carr.) have C:N ratios around 25 but all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Pinus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species have mean C:N ratios close to 30 or more. Note that ash (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Fraxinus excelsior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L.) and radiata pine (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Pinus radiata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D. Don) show a relatively wide confidence interval which is partly due to the low observation number (based on 14 and 13 plots respectively)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teresting to note is that the Pyrenean oak (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Quercus pyrenaica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Willd.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or Q. toza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) is an oak species with intermediate characteristics between the more Eurosiberian oaks (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Quercus robur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L. and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Quercus petraea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(Mattuschka) Liebl.) and the more sclerophyllous Mediterranean oaks (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Quercus ilex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L. and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Quercus suber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L.). The Figure confirms that this is also valid for the C:N ratio which is intermediate between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Q. robur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Q. petraea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on one hand and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Q. ilex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Q. suber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n the other han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Concerning the range of C:N ratios it seems to be more important to distinguish between deciduous and evergreen trees than between broadleaved and coniferous (except for Douglas-fir). This could indicate that the process of retranslocation is an important factor determining the litter quality (approximated here by the C:N ratio of the forest floor)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6228-B506-4E4E-8BD0-8CAFF22DB8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5810-4EBC-4AAA-93DD-1CEDB0CD69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06400" y="474768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llustrated for two most dominant tree species on Level I: P. abies (1111 plots) and P. sylvestris  (756 plot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O soil type derived from the soil map of Europe: high relative influence. Also other soil variables (brown) have relative high impor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CODECOUNTRY is relatively important for P. abies, less for for P. sylvestr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n annual temperature (MAT) is relatively more important compared to other predictor variables for the (northern) coniferous tree species than for the broadleaved tree spec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MEP deposition variables (Sox, Nred, Nox): gain in importance compared to analysis where all tree species are taken together especially Sox for P. abies. So the relation between C:N index and deposition variables is different for the different tree spec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calculation of C:N ratio based on weighed averag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king use of best estimates when data are mis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cumentation on decisions 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2694-D79A-4354-A35C-E4F67991C0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CF13-5CDB-414A-AE46-C8DCA91486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volgpagina_bovenbalk"/>
          <p:cNvPicPr/>
          <p:nvPr/>
        </p:nvPicPr>
        <p:blipFill>
          <a:blip r:embed="rId2"/>
          <a:stretch/>
        </p:blipFill>
        <p:spPr>
          <a:xfrm>
            <a:off x="0" y="0"/>
            <a:ext cx="9144000" cy="96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8" descr="volgpagina_benedenbalk"/>
          <p:cNvPicPr/>
          <p:nvPr/>
        </p:nvPicPr>
        <p:blipFill>
          <a:blip r:embed="rId3"/>
          <a:stretch/>
        </p:blipFill>
        <p:spPr>
          <a:xfrm>
            <a:off x="0" y="6480000"/>
            <a:ext cx="9144000" cy="378000"/>
          </a:xfrm>
          <a:prstGeom prst="rect">
            <a:avLst/>
          </a:prstGeom>
          <a:ln w="0">
            <a:noFill/>
          </a:ln>
        </p:spPr>
      </p:pic>
      <p:pic>
        <p:nvPicPr>
          <p:cNvPr id="4" name="Afbeelding 1" descr=""/>
          <p:cNvPicPr/>
          <p:nvPr/>
        </p:nvPicPr>
        <p:blipFill>
          <a:blip r:embed="rId4"/>
          <a:stretch/>
        </p:blipFill>
        <p:spPr>
          <a:xfrm>
            <a:off x="34920" y="6518160"/>
            <a:ext cx="39996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6" descr=""/>
          <p:cNvPicPr/>
          <p:nvPr/>
        </p:nvPicPr>
        <p:blipFill>
          <a:blip r:embed="rId3"/>
          <a:stretch/>
        </p:blipFill>
        <p:spPr>
          <a:xfrm>
            <a:off x="4788000" y="5589720"/>
            <a:ext cx="1296720" cy="97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5000" y="1511280"/>
            <a:ext cx="727236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Major factors explainin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C:N rati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European forests soil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5280" y="4220640"/>
            <a:ext cx="59752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athalie Cools, FSCC, Belgiu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hthoek 3"/>
          <p:cNvSpPr/>
          <p:nvPr/>
        </p:nvSpPr>
        <p:spPr>
          <a:xfrm>
            <a:off x="250920" y="189000"/>
            <a:ext cx="70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Joint Expert Panel Meeting on European Level Data Evaluation, Helsinki, 20 March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Ongoing analyses, evaluations and possible publications based on ICP Forest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8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Verdana"/>
              </a:rPr>
              <a:t>Integrated studies, nutrient cy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Which factors explain C:N ratios in European forest soils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132000" y="907920"/>
            <a:ext cx="590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Survey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ioSoil+ Soil on Level 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Relation other survey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lot variables(main tree speci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ographical overlays (WORLDCLI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MEP data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tional peer-reviewed jour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Timing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bmitted autumn 20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Journal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per in common special issu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Corresponding author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athalie Cools (FSCC, B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Contributor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runo De Vos (Chair FSE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ars Vesterdal (FSEP DK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lena Vanguelova (FSEP UK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Afbeelding 3" descr=""/>
          <p:cNvPicPr/>
          <p:nvPr/>
        </p:nvPicPr>
        <p:blipFill>
          <a:blip r:embed="rId1"/>
          <a:stretch/>
        </p:blipFill>
        <p:spPr>
          <a:xfrm>
            <a:off x="108000" y="1123920"/>
            <a:ext cx="3024000" cy="4969080"/>
          </a:xfrm>
          <a:prstGeom prst="rect">
            <a:avLst/>
          </a:prstGeom>
          <a:ln w="0">
            <a:noFill/>
          </a:ln>
        </p:spPr>
      </p:pic>
      <p:sp>
        <p:nvSpPr>
          <p:cNvPr id="93" name="Tekstvak 4"/>
          <p:cNvSpPr/>
          <p:nvPr/>
        </p:nvSpPr>
        <p:spPr>
          <a:xfrm>
            <a:off x="119160" y="6093000"/>
            <a:ext cx="221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Pinus canariensis, La Palma, 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Which factors explain C:N ratios in European forest soils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-49320" y="957240"/>
            <a:ext cx="9229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First results: C:N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Verdana"/>
              </a:rPr>
              <a:t>FF</a:t>
            </a: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 &amp; plot variabl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Tekstvak 4"/>
          <p:cNvSpPr/>
          <p:nvPr/>
        </p:nvSpPr>
        <p:spPr>
          <a:xfrm>
            <a:off x="1867680" y="1258920"/>
            <a:ext cx="69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:N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at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forest floor (mean value of OF, OH and OFH lay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1 environmental variables at the plo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sted regression tre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ee species type has highest relative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IJL-RECHTS 6"/>
          <p:cNvSpPr/>
          <p:nvPr/>
        </p:nvSpPr>
        <p:spPr>
          <a:xfrm>
            <a:off x="2025720" y="2160720"/>
            <a:ext cx="792000" cy="21096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Grafiek 7" descr=""/>
          <p:cNvPicPr/>
          <p:nvPr/>
        </p:nvPicPr>
        <p:blipFill>
          <a:blip r:embed="rId1"/>
          <a:stretch/>
        </p:blipFill>
        <p:spPr>
          <a:xfrm>
            <a:off x="396720" y="1176480"/>
            <a:ext cx="835056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5899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C:N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Verdana"/>
              </a:rPr>
              <a:t>FF</a:t>
            </a: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 according to tree speci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200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C:N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Verdana"/>
              </a:rPr>
              <a:t>index</a:t>
            </a: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 &amp; link with EMEP deposit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819000" y="3821040"/>
            <a:ext cx="7547040" cy="2671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819000" y="981000"/>
            <a:ext cx="75297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Progress – Future time tab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8000" y="1700280"/>
          <a:ext cx="8856720" cy="3860640"/>
        </p:xfrm>
        <a:graphic>
          <a:graphicData uri="http://schemas.openxmlformats.org/drawingml/2006/table">
            <a:tbl>
              <a:tblPr/>
              <a:tblGrid>
                <a:gridCol w="6994440"/>
                <a:gridCol w="1862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ad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orking document = first dra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-02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st input from co-auth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-03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alculation of C:N ratio based on weighed aver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-03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alculation of statistics, in-depth statistical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-04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ond draft communicated to co-auth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-04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edback from co-auth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-05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ation at workshop Warsa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-05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working of pap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mmer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per submi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umn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Suggestions for future research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95640" y="1230120"/>
            <a:ext cx="4835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gration with other surveys on Level I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alidation using measured throughfal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:N of forest floor and soil as essential link in C &amp; N cyc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Afbeelding 6" descr=""/>
          <p:cNvPicPr/>
          <p:nvPr/>
        </p:nvPicPr>
        <p:blipFill>
          <a:blip r:embed="rId1"/>
          <a:stretch/>
        </p:blipFill>
        <p:spPr>
          <a:xfrm>
            <a:off x="6031080" y="4869000"/>
            <a:ext cx="2869920" cy="1473120"/>
          </a:xfrm>
          <a:prstGeom prst="rect">
            <a:avLst/>
          </a:prstGeom>
          <a:ln w="0">
            <a:noFill/>
          </a:ln>
        </p:spPr>
      </p:pic>
      <p:pic>
        <p:nvPicPr>
          <p:cNvPr id="110" name="Afbeelding 3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389124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8:24:16Z</dcterms:created>
  <dc:creator>COOLS, Nathalie</dc:creator>
  <dc:description/>
  <dc:language>en-US</dc:language>
  <cp:lastModifiedBy>COOLS, Nathalie</cp:lastModifiedBy>
  <dcterms:modified xsi:type="dcterms:W3CDTF">2012-03-20T07:02:12Z</dcterms:modified>
  <cp:revision>55</cp:revision>
  <dc:subject/>
  <dc:title>Major factors explaining C:N ratios in European forest soils</dc:title>
</cp:coreProperties>
</file>