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6C5-5B21-44A3-9081-81B9B24C44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0488-FBDA-4458-8FA7-015CD50712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E6D-7701-4021-A2FF-A401657E69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4F1-194C-4C87-B3E1-9D58FD6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56E-6DA1-4AC6-B1DD-ED891F5A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262-CAE9-468E-A9BD-2AF84C89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1CC-646D-4EFE-8B9C-828F1E5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DF3-983E-4FAD-BFC3-56C9B49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C17-4E69-4D9C-99F1-825232C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42-EB1E-4FB9-A267-16CCB772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D63-A487-4C58-86FD-008CB22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B00-525A-442A-AEA6-9ACA2CD5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5F2-A6F7-43B7-97FC-27D6A8C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231-CD83-44E0-8085-0F543ED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689-C05E-4712-9D1E-8C90A01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DEC-98E2-41F7-9DA3-07C39A94D04D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067-63C8-489E-96ED-0CA9367D45F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ng the nitrogen Critical Loads on European Forests by means of epiphytic lichens. A signal-to-nois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olo Giordani, Vicent Calatayud, Silvia Stof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Seidling, Oliver Granke, Richard Fis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000000"/>
                </a:solidFill>
                <a:latin typeface="Arial"/>
              </a:rPr>
              <a:t>Botanic Centre Hanbury, Dip.Te.Ris., University of Genova, Corso Dogali 1M, I-16136 – Genova, 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Instituto Universitario CEAM-UMH, Parque Tecnológico C/ Charles R. Darwin, 14, ES- 46980 – Paterna, Valencia, S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Swiss Federal Research Insitute WSL, Biodiversity and Conservation Biology, Zürcherstrasse 111, CH-8903 Birmensdorf, Switzel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Johann Heinrich von Thünen-Institute (vTI), Federal Research Institute for Rural Areas, Forestry and Fisheries, Hamburg,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925-6451-4EF5-A493-0A872527E50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11A-DAE2-4BBA-BD1A-F1997EA8AC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is to be tested, time schedule,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9280" y="1197000"/>
            <a:ext cx="889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stablish nitrogen Critical Loads for European Forests, based on the relative diversity of functional groups of epiphytic lich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the independent effect of nitrogen pollutants against the background noise of other environmental predi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inly climatic variab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jour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ollution, Ecological Indicators or Atmospheric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tative time sched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and review of the datasets (may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analysis (jun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paper (july-september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 (september-november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F081-9805-4028-9F7A-A95D676CC3E9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BD1-F578-4D3F-B298-E33DF2994C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ataset,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12500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piphytic lichen sampling at 83 Level II intensive monitoring plots (several response variab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Yearly average throughfall deposition data (mainly nitrogen and sulphur compounds) from intensive forest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est type, forest structure, precipitations, other environmental data at the same pl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ierarchical partitioning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ward selection with stopping rules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-Parametric Multiplicative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A68-5866-4944-9AA7-1D4CB9FA946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ults (some ex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egnaposto contenuto 4" descr="TotalN vs %macro.tif"/>
          <p:cNvPicPr/>
          <p:nvPr/>
        </p:nvPicPr>
        <p:blipFill>
          <a:blip r:embed="rId1"/>
          <a:stretch/>
        </p:blipFill>
        <p:spPr>
          <a:xfrm>
            <a:off x="3851280" y="1160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3059280" y="3716280"/>
            <a:ext cx="608472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ttangolo 10"/>
          <p:cNvSpPr/>
          <p:nvPr/>
        </p:nvSpPr>
        <p:spPr>
          <a:xfrm>
            <a:off x="0" y="1844640"/>
            <a:ext cx="36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hich amount of nitrogen deposition is  a significant variation of the relative diversity of nitrophytic vs. oligotrophic epiphytic lichens in the sampled plots expec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variance of these diversity variables can be independently explained by nitrogen deposi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ults (some ex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219640" y="1158840"/>
            <a:ext cx="3924360" cy="133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2465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0:11:13Z</dcterms:created>
  <dc:creator>Paolo Giordani</dc:creator>
  <dc:description/>
  <dc:language>en-US</dc:language>
  <cp:lastModifiedBy>Giordani</cp:lastModifiedBy>
  <dcterms:modified xsi:type="dcterms:W3CDTF">2012-03-20T10:53:35Z</dcterms:modified>
  <cp:revision>45</cp:revision>
  <dc:subject/>
  <dc:title>Diapositiva 1</dc:title>
</cp:coreProperties>
</file>